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24F5D1-D47D-4D99-B097-B27117ED58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FA6674-ED49-43CE-A300-7623ED9910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527095-0F57-4010-BF88-8C44863709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66F968-6856-4007-9CF2-255A39134A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04992E-0A50-415A-B63F-17ECEDEF89C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AF9462-3688-41A5-AADB-B804C5C2AD5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0882A3-1A5E-474E-9611-0D25A28349F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180E51-87CF-41AE-87FB-76E67330C54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887AE8-F66D-462D-A62F-9F97785F080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6BA5D1-3361-4A5D-BDF9-E1116E43F78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B59A44-B04C-4DED-BD95-558E725A7C0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4C85EA-1B51-4519-A517-8E02671909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5F8F01-F04F-4577-82A5-C3D407B3CC0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849F43-303C-467E-89D1-A73D0BC416A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A1A451-E25E-499B-81F9-34F22137B18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298EB0-B00E-43CE-A826-AD5FD36F0AC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BE8308-2B5B-446E-8A28-212B4343917E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2D34B-3784-4617-9D56-C41090DD86E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549F1-41ED-41EE-B55F-DC0771BC1E9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83B46-F06F-4C65-B4D1-27BBF90E26A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6D791-5CA0-47BE-8340-93E39409281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6FA8C-511A-4877-93FE-F693295320B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D58A03-CFBF-4F89-B62F-EF92B42EB11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698A8-BCF8-4E2E-B4EB-D4EA655A56A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491E0-3600-48DF-909D-EE7A7EF0877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1DE97-3AA2-43F0-82E6-782D294C3A8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7392E-3707-4550-BFBE-762B124598B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C0283-5D50-41B1-8B17-EB815E8F505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F1630-85E8-4A20-A988-63CF8691B1E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C2A45-1EBC-4738-A2F0-9980129FFBBE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E43C04-ADE5-472B-A77D-5EC0A31ADE47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36D7DB-1E5B-4C89-9B0F-8B3B1E7B01F0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BA68AD-DA97-4840-BD78-CB4F887A67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380FC6-7727-4E12-A403-FA92AE2EDE37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05329F-D1BE-4852-BA14-9E529C4D5E8F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7D2369-E71D-4554-985B-AE8B992A6B65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591DD3-1434-49BA-B10E-CE2D66B01D6B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17DDEF-1098-4BE9-B942-992A4060B847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ECBE97-EC8F-4B3A-A3BC-D38EE042FF7A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89F315-C52C-44E8-859A-3FB49FDB8E50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AAE3F4-0943-4BD0-B44F-4A157567E92E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3AA4FB-F7C8-4603-BD7F-BF556731BCC3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067BE8-6819-4C42-A114-12DAC2D72CDE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D5CC01-28E3-48B5-AF6C-6F85E0A623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7DF44F-F85A-4C33-AB80-A9550FA32ABE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AF0A23-3264-419C-90FB-C6D2F0DB6AF3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1E568B-BE19-4CD7-A37A-8DD223C63854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BE502E-31A6-4A02-B1BD-366FB72FFFBD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1675DE-FD97-4CC8-BC53-42CC5EA9DAE1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7ADCE4-4F1B-481A-9A87-C137A8E4FA8D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AAC5BA-16A6-4F7F-B789-45641AED4CAB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5D1CCE-4C6F-42FA-9A56-4348B248A883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A58F4B-55E7-450A-80FC-4CD87EB5F20E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B1046C-F2B5-4054-98E8-B4B8D84DB8D7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87CBA4-E533-4A07-8CBD-B43613944E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7B8F5-9CE1-4041-A6D4-874B69DE7D8D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809878-9A04-4EB7-9F35-903BDCA54B62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8279A-FE94-4095-8318-26F53FB503A6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22FE7-0692-473B-818C-190396F8D5FC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AA62E-17E9-4AC1-AD5F-3B5E842D1C85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3CCAD-FAB6-4451-B708-CF1152F57B07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20CC3-9E57-468E-B65E-1B02FF178925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04196-1D56-4DEE-ACAF-D60107E4FC19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D5C1E-1F83-453E-A8ED-7ECF0B655ED3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6CE27-C690-4757-A8FE-4DEF519A659C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C33B9-8318-46DE-BEB0-0258832F21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35AAB5-5265-40CB-8457-7298F543202E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3F1DF-6A69-4CD8-9714-E391DCC08419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D2059-B0D6-4AF8-B688-DC81906BC469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06213-5B87-4FE5-AC8A-8D645F1E02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496397-0AA1-48EB-94A1-72F9753909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90C4A2-609B-470D-BA85-D73F7E383B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5120" indent="-46512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579600" indent="-12240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20816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lide 4-</a:t>
            </a:r>
            <a:fld id="{90417819-4E85-4A70-AA32-47221B06DEBD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5120" indent="-46512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579600" indent="-12240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20816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Num" idx="2"/>
          </p:nvPr>
        </p:nvSpPr>
        <p:spPr>
          <a:xfrm>
            <a:off x="7002000" y="64767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lide 5-</a:t>
            </a:r>
            <a:fld id="{D011010C-C425-428F-B072-9EA7A372EEE2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5120" indent="-46512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579600" indent="-12240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20816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Num" idx="3"/>
          </p:nvPr>
        </p:nvSpPr>
        <p:spPr>
          <a:xfrm>
            <a:off x="7017840" y="64767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lide 5-</a:t>
            </a:r>
            <a:fld id="{965A52B4-98B9-4D3B-8AC1-A7B567BA0A3E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5120" indent="-46512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579600" indent="-12240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20816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sldNum" idx="4"/>
          </p:nvPr>
        </p:nvSpPr>
        <p:spPr>
          <a:xfrm>
            <a:off x="7002000" y="6462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lide 5-</a:t>
            </a:r>
            <a:fld id="{67654BA6-B8FD-4151-A5B1-EA9B1F8AC27D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5120" indent="-46512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579600" indent="-12240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20816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sldNum" idx="5"/>
          </p:nvPr>
        </p:nvSpPr>
        <p:spPr>
          <a:xfrm>
            <a:off x="6988320" y="647676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lide 5-</a:t>
            </a:r>
            <a:fld id="{27E416E8-FB72-4C7F-89A7-D4D043FFA4BD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5120" indent="-46512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579600" indent="-12240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20816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 type="sldNum" idx="6"/>
          </p:nvPr>
        </p:nvSpPr>
        <p:spPr>
          <a:xfrm>
            <a:off x="7002000" y="6447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lide 5-</a:t>
            </a:r>
            <a:fld id="{85FED97A-B6DE-457C-90D2-E80BAF1E73B8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Slide Number Placeholder 1"/>
          <p:cNvSpPr/>
          <p:nvPr/>
        </p:nvSpPr>
        <p:spPr>
          <a:xfrm>
            <a:off x="7002360" y="64771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lide 5-</a:t>
            </a:r>
            <a:fld id="{6A42005B-0275-45B9-AD78-CD08F9B4F0C6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33520" y="1752480"/>
            <a:ext cx="7772400" cy="259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RESIDENTIAL TYPE V</a:t>
            </a:r>
            <a:br>
              <a:rPr sz="4400"/>
            </a:b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PLATFORM-FRAME EXERCISE #2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Slide Number Placeholder 1"/>
          <p:cNvSpPr/>
          <p:nvPr/>
        </p:nvSpPr>
        <p:spPr>
          <a:xfrm>
            <a:off x="7002360" y="64771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lide 5-</a:t>
            </a:r>
            <a:fld id="{9B85D588-524C-45A5-A286-49B2B82BCF8F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1" name="Picture 2" descr="This is a picture of the back of the same house on fire"/>
          <p:cNvPicPr/>
          <p:nvPr/>
        </p:nvPicPr>
        <p:blipFill>
          <a:blip r:embed="rId1"/>
          <a:stretch/>
        </p:blipFill>
        <p:spPr>
          <a:xfrm>
            <a:off x="0" y="0"/>
            <a:ext cx="9144000" cy="6324480"/>
          </a:xfrm>
          <a:prstGeom prst="rect">
            <a:avLst/>
          </a:prstGeom>
          <a:ln w="0">
            <a:noFill/>
          </a:ln>
        </p:spPr>
      </p:pic>
      <p:sp>
        <p:nvSpPr>
          <p:cNvPr id="612" name="Line 3"/>
          <p:cNvSpPr/>
          <p:nvPr/>
        </p:nvSpPr>
        <p:spPr>
          <a:xfrm flipV="1">
            <a:off x="2057400" y="4343400"/>
            <a:ext cx="0" cy="9144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Text Box 4"/>
          <p:cNvSpPr/>
          <p:nvPr/>
        </p:nvSpPr>
        <p:spPr>
          <a:xfrm>
            <a:off x="1696320" y="5257800"/>
            <a:ext cx="680760" cy="30708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ide 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Text Box 5"/>
          <p:cNvSpPr/>
          <p:nvPr/>
        </p:nvSpPr>
        <p:spPr>
          <a:xfrm>
            <a:off x="6115680" y="4952880"/>
            <a:ext cx="671400" cy="30708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ide 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6"/>
          <p:cNvSpPr/>
          <p:nvPr/>
        </p:nvSpPr>
        <p:spPr>
          <a:xfrm flipV="1">
            <a:off x="6324480" y="4038480"/>
            <a:ext cx="0" cy="9144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Slide Number Placeholder 1"/>
          <p:cNvSpPr/>
          <p:nvPr/>
        </p:nvSpPr>
        <p:spPr>
          <a:xfrm>
            <a:off x="7002360" y="64771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lide 5-</a:t>
            </a:r>
            <a:fld id="{0C59E044-37E9-4A28-B8B8-3BE8719A938D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Picture 2" descr="This is a picture of the other side of the same house on fire"/>
          <p:cNvPicPr/>
          <p:nvPr/>
        </p:nvPicPr>
        <p:blipFill>
          <a:blip r:embed="rId1"/>
          <a:stretch/>
        </p:blipFill>
        <p:spPr>
          <a:xfrm>
            <a:off x="0" y="0"/>
            <a:ext cx="9144000" cy="6400800"/>
          </a:xfrm>
          <a:prstGeom prst="rect">
            <a:avLst/>
          </a:prstGeom>
          <a:ln w="0">
            <a:noFill/>
          </a:ln>
        </p:spPr>
      </p:pic>
      <p:sp>
        <p:nvSpPr>
          <p:cNvPr id="618" name="Text Box 3"/>
          <p:cNvSpPr/>
          <p:nvPr/>
        </p:nvSpPr>
        <p:spPr>
          <a:xfrm>
            <a:off x="2077200" y="3886200"/>
            <a:ext cx="680760" cy="30708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ide 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4"/>
          <p:cNvSpPr/>
          <p:nvPr/>
        </p:nvSpPr>
        <p:spPr>
          <a:xfrm flipH="1" flipV="1">
            <a:off x="4876560" y="2895120"/>
            <a:ext cx="533160" cy="2286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 Box 5"/>
          <p:cNvSpPr/>
          <p:nvPr/>
        </p:nvSpPr>
        <p:spPr>
          <a:xfrm>
            <a:off x="5506200" y="3048120"/>
            <a:ext cx="680760" cy="30708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ide 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6"/>
          <p:cNvSpPr/>
          <p:nvPr/>
        </p:nvSpPr>
        <p:spPr>
          <a:xfrm flipV="1">
            <a:off x="2743200" y="3200400"/>
            <a:ext cx="0" cy="8380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Slide Number Placeholder 1"/>
          <p:cNvSpPr/>
          <p:nvPr/>
        </p:nvSpPr>
        <p:spPr>
          <a:xfrm>
            <a:off x="7002360" y="64771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lide 5-</a:t>
            </a:r>
            <a:fld id="{11BF56E1-363D-479C-9D9D-5A09576FF166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7" name="Picture 3" descr="This is a picture of the front of a house"/>
          <p:cNvPicPr/>
          <p:nvPr/>
        </p:nvPicPr>
        <p:blipFill>
          <a:blip r:embed="rId1"/>
          <a:stretch/>
        </p:blipFill>
        <p:spPr>
          <a:xfrm>
            <a:off x="0" y="0"/>
            <a:ext cx="9144000" cy="640080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ide A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3677400" y="5181480"/>
            <a:ext cx="680760" cy="30708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ide 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 Box 5"/>
          <p:cNvSpPr/>
          <p:nvPr/>
        </p:nvSpPr>
        <p:spPr>
          <a:xfrm>
            <a:off x="7944480" y="4952880"/>
            <a:ext cx="680760" cy="30708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ide 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Line 6"/>
          <p:cNvSpPr/>
          <p:nvPr/>
        </p:nvSpPr>
        <p:spPr>
          <a:xfrm flipV="1">
            <a:off x="3962520" y="4267080"/>
            <a:ext cx="0" cy="9144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Line 7"/>
          <p:cNvSpPr/>
          <p:nvPr/>
        </p:nvSpPr>
        <p:spPr>
          <a:xfrm flipV="1">
            <a:off x="8077320" y="4191120"/>
            <a:ext cx="0" cy="7617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Slide Number Placeholder 1"/>
          <p:cNvSpPr/>
          <p:nvPr/>
        </p:nvSpPr>
        <p:spPr>
          <a:xfrm>
            <a:off x="7002360" y="64771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lide 5-</a:t>
            </a:r>
            <a:fld id="{B796FC82-2FC2-42E0-AD19-41B2054D74FF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Picture 3" descr="This is a picture of the side of the same house"/>
          <p:cNvPicPr/>
          <p:nvPr/>
        </p:nvPicPr>
        <p:blipFill>
          <a:blip r:embed="rId1"/>
          <a:stretch/>
        </p:blipFill>
        <p:spPr>
          <a:xfrm>
            <a:off x="0" y="0"/>
            <a:ext cx="9144000" cy="640080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ide B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6" name="Text Box 4"/>
          <p:cNvSpPr/>
          <p:nvPr/>
        </p:nvSpPr>
        <p:spPr>
          <a:xfrm>
            <a:off x="2839320" y="4114800"/>
            <a:ext cx="671400" cy="30708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ide 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Text Box 5"/>
          <p:cNvSpPr/>
          <p:nvPr/>
        </p:nvSpPr>
        <p:spPr>
          <a:xfrm>
            <a:off x="7715880" y="3809880"/>
            <a:ext cx="680760" cy="30708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ide 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Line 6"/>
          <p:cNvSpPr/>
          <p:nvPr/>
        </p:nvSpPr>
        <p:spPr>
          <a:xfrm flipV="1">
            <a:off x="3200400" y="3581280"/>
            <a:ext cx="0" cy="5335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Line 7"/>
          <p:cNvSpPr/>
          <p:nvPr/>
        </p:nvSpPr>
        <p:spPr>
          <a:xfrm flipH="1" flipV="1">
            <a:off x="6934320" y="3200040"/>
            <a:ext cx="838080" cy="6094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Slide Number Placeholder 1"/>
          <p:cNvSpPr/>
          <p:nvPr/>
        </p:nvSpPr>
        <p:spPr>
          <a:xfrm>
            <a:off x="7002360" y="64771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lide 5-</a:t>
            </a:r>
            <a:fld id="{4A906F1B-2AB4-45F3-A34A-6C25D706A063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1" name="Picture 3" descr="This is a picture of the back of the same house"/>
          <p:cNvPicPr/>
          <p:nvPr/>
        </p:nvPicPr>
        <p:blipFill>
          <a:blip r:embed="rId1"/>
          <a:stretch/>
        </p:blipFill>
        <p:spPr>
          <a:xfrm>
            <a:off x="0" y="0"/>
            <a:ext cx="9144000" cy="6477120"/>
          </a:xfrm>
          <a:prstGeom prst="rect">
            <a:avLst/>
          </a:prstGeom>
          <a:ln w="0">
            <a:noFill/>
          </a:ln>
        </p:spPr>
      </p:pic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ide C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3" name="Text Box 4"/>
          <p:cNvSpPr/>
          <p:nvPr/>
        </p:nvSpPr>
        <p:spPr>
          <a:xfrm>
            <a:off x="1620000" y="5562720"/>
            <a:ext cx="680760" cy="30708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ide 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Text Box 5"/>
          <p:cNvSpPr/>
          <p:nvPr/>
        </p:nvSpPr>
        <p:spPr>
          <a:xfrm>
            <a:off x="6192000" y="4876920"/>
            <a:ext cx="671400" cy="30708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ide 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Line 6"/>
          <p:cNvSpPr/>
          <p:nvPr/>
        </p:nvSpPr>
        <p:spPr>
          <a:xfrm flipV="1">
            <a:off x="2133720" y="4648320"/>
            <a:ext cx="0" cy="9144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Line 7"/>
          <p:cNvSpPr/>
          <p:nvPr/>
        </p:nvSpPr>
        <p:spPr>
          <a:xfrm flipV="1">
            <a:off x="6553080" y="4038120"/>
            <a:ext cx="0" cy="83844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Slide Number Placeholder 1"/>
          <p:cNvSpPr/>
          <p:nvPr/>
        </p:nvSpPr>
        <p:spPr>
          <a:xfrm>
            <a:off x="7002360" y="64771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lide 5-</a:t>
            </a:r>
            <a:fld id="{0F6C361C-D701-4A58-BB86-BC582226FE93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8" name="Picture 3" descr="This is a picture of the other side of the same house"/>
          <p:cNvPicPr/>
          <p:nvPr/>
        </p:nvPicPr>
        <p:blipFill>
          <a:blip r:embed="rId1"/>
          <a:stretch/>
        </p:blipFill>
        <p:spPr>
          <a:xfrm>
            <a:off x="0" y="0"/>
            <a:ext cx="9144000" cy="6400800"/>
          </a:xfrm>
          <a:prstGeom prst="rect">
            <a:avLst/>
          </a:prstGeom>
          <a:ln w="0">
            <a:noFill/>
          </a:ln>
        </p:spPr>
      </p:pic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ide D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0" name="Text Box 4"/>
          <p:cNvSpPr/>
          <p:nvPr/>
        </p:nvSpPr>
        <p:spPr>
          <a:xfrm>
            <a:off x="2458080" y="4419720"/>
            <a:ext cx="680760" cy="30708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ide 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Line 5"/>
          <p:cNvSpPr/>
          <p:nvPr/>
        </p:nvSpPr>
        <p:spPr>
          <a:xfrm flipV="1">
            <a:off x="2819520" y="3505320"/>
            <a:ext cx="0" cy="9144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Text Box 6"/>
          <p:cNvSpPr/>
          <p:nvPr/>
        </p:nvSpPr>
        <p:spPr>
          <a:xfrm>
            <a:off x="5734800" y="3429000"/>
            <a:ext cx="680760" cy="30708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ide 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Line 7"/>
          <p:cNvSpPr/>
          <p:nvPr/>
        </p:nvSpPr>
        <p:spPr>
          <a:xfrm flipH="1" flipV="1">
            <a:off x="4952520" y="3200040"/>
            <a:ext cx="838440" cy="3049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Slide Number Placeholder 1"/>
          <p:cNvSpPr/>
          <p:nvPr/>
        </p:nvSpPr>
        <p:spPr>
          <a:xfrm>
            <a:off x="7002360" y="64771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lide 5-</a:t>
            </a:r>
            <a:fld id="{C3678415-84F7-4D15-A553-31ABAFC03AC2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Rectangle 202"/>
          <p:cNvSpPr/>
          <p:nvPr/>
        </p:nvSpPr>
        <p:spPr>
          <a:xfrm>
            <a:off x="0" y="0"/>
            <a:ext cx="9144000" cy="6324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6" name="Group 201"/>
          <p:cNvGrpSpPr/>
          <p:nvPr/>
        </p:nvGrpSpPr>
        <p:grpSpPr>
          <a:xfrm>
            <a:off x="650880" y="228600"/>
            <a:ext cx="8320320" cy="5696280"/>
            <a:chOff x="650880" y="228600"/>
            <a:chExt cx="8320320" cy="5696280"/>
          </a:xfrm>
        </p:grpSpPr>
        <p:sp>
          <p:nvSpPr>
            <p:cNvPr id="267" name="Line 2"/>
            <p:cNvSpPr/>
            <p:nvPr/>
          </p:nvSpPr>
          <p:spPr>
            <a:xfrm>
              <a:off x="1521360" y="2540160"/>
              <a:ext cx="1088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Text Box 3"/>
            <p:cNvSpPr/>
            <p:nvPr/>
          </p:nvSpPr>
          <p:spPr>
            <a:xfrm>
              <a:off x="5467320" y="2646720"/>
              <a:ext cx="408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LAV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4"/>
            <p:cNvSpPr/>
            <p:nvPr/>
          </p:nvSpPr>
          <p:spPr>
            <a:xfrm>
              <a:off x="1521360" y="4249800"/>
              <a:ext cx="1886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5"/>
            <p:cNvSpPr/>
            <p:nvPr/>
          </p:nvSpPr>
          <p:spPr>
            <a:xfrm>
              <a:off x="6710400" y="4273560"/>
              <a:ext cx="1415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6"/>
            <p:cNvSpPr/>
            <p:nvPr/>
          </p:nvSpPr>
          <p:spPr>
            <a:xfrm>
              <a:off x="3408120" y="4249800"/>
              <a:ext cx="660600" cy="1107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7"/>
            <p:cNvSpPr/>
            <p:nvPr/>
          </p:nvSpPr>
          <p:spPr>
            <a:xfrm flipH="1">
              <a:off x="4069080" y="4273560"/>
              <a:ext cx="2640960" cy="1107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"/>
            <p:cNvSpPr/>
            <p:nvPr/>
          </p:nvSpPr>
          <p:spPr>
            <a:xfrm>
              <a:off x="1521360" y="1914120"/>
              <a:ext cx="1036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9"/>
            <p:cNvSpPr/>
            <p:nvPr/>
          </p:nvSpPr>
          <p:spPr>
            <a:xfrm flipH="1">
              <a:off x="2558520" y="806400"/>
              <a:ext cx="2642400" cy="1107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10"/>
            <p:cNvSpPr/>
            <p:nvPr/>
          </p:nvSpPr>
          <p:spPr>
            <a:xfrm>
              <a:off x="5201280" y="806400"/>
              <a:ext cx="659160" cy="1107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11"/>
            <p:cNvSpPr/>
            <p:nvPr/>
          </p:nvSpPr>
          <p:spPr>
            <a:xfrm flipV="1">
              <a:off x="8125560" y="1914120"/>
              <a:ext cx="0" cy="2335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12"/>
            <p:cNvSpPr/>
            <p:nvPr/>
          </p:nvSpPr>
          <p:spPr>
            <a:xfrm flipV="1">
              <a:off x="1521360" y="1914120"/>
              <a:ext cx="0" cy="2335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Line 13"/>
            <p:cNvSpPr/>
            <p:nvPr/>
          </p:nvSpPr>
          <p:spPr>
            <a:xfrm>
              <a:off x="5860800" y="1914120"/>
              <a:ext cx="2264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9" name="Group 14"/>
            <p:cNvGrpSpPr/>
            <p:nvPr/>
          </p:nvGrpSpPr>
          <p:grpSpPr>
            <a:xfrm>
              <a:off x="7472520" y="4201200"/>
              <a:ext cx="217440" cy="144360"/>
              <a:chOff x="7472520" y="4201200"/>
              <a:chExt cx="217440" cy="144360"/>
            </a:xfrm>
          </p:grpSpPr>
          <p:grpSp>
            <p:nvGrpSpPr>
              <p:cNvPr id="280" name="Group 15"/>
              <p:cNvGrpSpPr/>
              <p:nvPr/>
            </p:nvGrpSpPr>
            <p:grpSpPr>
              <a:xfrm>
                <a:off x="7472520" y="4201200"/>
                <a:ext cx="217440" cy="144360"/>
                <a:chOff x="7472520" y="4201200"/>
                <a:chExt cx="217440" cy="144360"/>
              </a:xfrm>
            </p:grpSpPr>
            <p:sp>
              <p:nvSpPr>
                <p:cNvPr id="281" name="Line 16"/>
                <p:cNvSpPr/>
                <p:nvPr/>
              </p:nvSpPr>
              <p:spPr>
                <a:xfrm flipV="1">
                  <a:off x="7689960" y="4201200"/>
                  <a:ext cx="0" cy="144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Line 17"/>
                <p:cNvSpPr/>
                <p:nvPr/>
              </p:nvSpPr>
              <p:spPr>
                <a:xfrm flipV="1">
                  <a:off x="7472520" y="4201200"/>
                  <a:ext cx="0" cy="144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3" name="Line 18"/>
              <p:cNvSpPr/>
              <p:nvPr/>
            </p:nvSpPr>
            <p:spPr>
              <a:xfrm>
                <a:off x="7472520" y="4273920"/>
                <a:ext cx="21744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4" name="Group 19"/>
            <p:cNvGrpSpPr/>
            <p:nvPr/>
          </p:nvGrpSpPr>
          <p:grpSpPr>
            <a:xfrm>
              <a:off x="7254720" y="4201200"/>
              <a:ext cx="217440" cy="144360"/>
              <a:chOff x="7254720" y="4201200"/>
              <a:chExt cx="217440" cy="144360"/>
            </a:xfrm>
          </p:grpSpPr>
          <p:grpSp>
            <p:nvGrpSpPr>
              <p:cNvPr id="285" name="Group 20"/>
              <p:cNvGrpSpPr/>
              <p:nvPr/>
            </p:nvGrpSpPr>
            <p:grpSpPr>
              <a:xfrm>
                <a:off x="7254720" y="4201200"/>
                <a:ext cx="217440" cy="144360"/>
                <a:chOff x="7254720" y="4201200"/>
                <a:chExt cx="217440" cy="144360"/>
              </a:xfrm>
            </p:grpSpPr>
            <p:sp>
              <p:nvSpPr>
                <p:cNvPr id="286" name="Line 21"/>
                <p:cNvSpPr/>
                <p:nvPr/>
              </p:nvSpPr>
              <p:spPr>
                <a:xfrm flipV="1">
                  <a:off x="7472160" y="4201200"/>
                  <a:ext cx="0" cy="144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Line 22"/>
                <p:cNvSpPr/>
                <p:nvPr/>
              </p:nvSpPr>
              <p:spPr>
                <a:xfrm flipV="1">
                  <a:off x="7254720" y="4201200"/>
                  <a:ext cx="0" cy="144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8" name="Line 23"/>
              <p:cNvSpPr/>
              <p:nvPr/>
            </p:nvSpPr>
            <p:spPr>
              <a:xfrm>
                <a:off x="7254720" y="4273920"/>
                <a:ext cx="21744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9" name="Group 24"/>
            <p:cNvGrpSpPr/>
            <p:nvPr/>
          </p:nvGrpSpPr>
          <p:grpSpPr>
            <a:xfrm>
              <a:off x="6436440" y="1057680"/>
              <a:ext cx="256680" cy="218520"/>
              <a:chOff x="6436440" y="1057680"/>
              <a:chExt cx="256680" cy="218520"/>
            </a:xfrm>
          </p:grpSpPr>
          <p:grpSp>
            <p:nvGrpSpPr>
              <p:cNvPr id="290" name="Group 25"/>
              <p:cNvGrpSpPr/>
              <p:nvPr/>
            </p:nvGrpSpPr>
            <p:grpSpPr>
              <a:xfrm>
                <a:off x="6436440" y="1057680"/>
                <a:ext cx="256680" cy="218520"/>
                <a:chOff x="6436440" y="1057680"/>
                <a:chExt cx="256680" cy="218520"/>
              </a:xfrm>
            </p:grpSpPr>
            <p:sp>
              <p:nvSpPr>
                <p:cNvPr id="291" name="Line 26"/>
                <p:cNvSpPr/>
                <p:nvPr/>
              </p:nvSpPr>
              <p:spPr>
                <a:xfrm flipH="1" flipV="1">
                  <a:off x="6636240" y="1057680"/>
                  <a:ext cx="56880" cy="132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Line 27"/>
                <p:cNvSpPr/>
                <p:nvPr/>
              </p:nvSpPr>
              <p:spPr>
                <a:xfrm flipH="1" flipV="1">
                  <a:off x="6436440" y="1143720"/>
                  <a:ext cx="57240" cy="132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Line 28"/>
              <p:cNvSpPr/>
              <p:nvPr/>
            </p:nvSpPr>
            <p:spPr>
              <a:xfrm flipV="1">
                <a:off x="6465240" y="1124640"/>
                <a:ext cx="199800" cy="8568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4" name="Group 29"/>
            <p:cNvGrpSpPr/>
            <p:nvPr/>
          </p:nvGrpSpPr>
          <p:grpSpPr>
            <a:xfrm>
              <a:off x="3582000" y="4613040"/>
              <a:ext cx="232200" cy="259560"/>
              <a:chOff x="3582000" y="4613040"/>
              <a:chExt cx="232200" cy="259560"/>
            </a:xfrm>
          </p:grpSpPr>
          <p:grpSp>
            <p:nvGrpSpPr>
              <p:cNvPr id="295" name="Group 30"/>
              <p:cNvGrpSpPr/>
              <p:nvPr/>
            </p:nvGrpSpPr>
            <p:grpSpPr>
              <a:xfrm>
                <a:off x="3582000" y="4613040"/>
                <a:ext cx="232200" cy="259560"/>
                <a:chOff x="3582000" y="4613040"/>
                <a:chExt cx="232200" cy="259560"/>
              </a:xfrm>
            </p:grpSpPr>
            <p:sp>
              <p:nvSpPr>
                <p:cNvPr id="296" name="Line 31"/>
                <p:cNvSpPr/>
                <p:nvPr/>
              </p:nvSpPr>
              <p:spPr>
                <a:xfrm flipH="1">
                  <a:off x="3687480" y="4802040"/>
                  <a:ext cx="126720" cy="70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Line 32"/>
                <p:cNvSpPr/>
                <p:nvPr/>
              </p:nvSpPr>
              <p:spPr>
                <a:xfrm flipH="1">
                  <a:off x="3582000" y="4613040"/>
                  <a:ext cx="126720" cy="70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8" name="Line 33"/>
              <p:cNvSpPr/>
              <p:nvPr/>
            </p:nvSpPr>
            <p:spPr>
              <a:xfrm>
                <a:off x="3646080" y="4648680"/>
                <a:ext cx="105480" cy="1886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9" name="Group 34"/>
            <p:cNvGrpSpPr/>
            <p:nvPr/>
          </p:nvGrpSpPr>
          <p:grpSpPr>
            <a:xfrm>
              <a:off x="4694760" y="4958640"/>
              <a:ext cx="256680" cy="218520"/>
              <a:chOff x="4694760" y="4958640"/>
              <a:chExt cx="256680" cy="218520"/>
            </a:xfrm>
          </p:grpSpPr>
          <p:grpSp>
            <p:nvGrpSpPr>
              <p:cNvPr id="300" name="Group 35"/>
              <p:cNvGrpSpPr/>
              <p:nvPr/>
            </p:nvGrpSpPr>
            <p:grpSpPr>
              <a:xfrm>
                <a:off x="4694760" y="4958640"/>
                <a:ext cx="256680" cy="218520"/>
                <a:chOff x="4694760" y="4958640"/>
                <a:chExt cx="256680" cy="218520"/>
              </a:xfrm>
            </p:grpSpPr>
            <p:sp>
              <p:nvSpPr>
                <p:cNvPr id="301" name="Line 36"/>
                <p:cNvSpPr/>
                <p:nvPr/>
              </p:nvSpPr>
              <p:spPr>
                <a:xfrm flipH="1" flipV="1">
                  <a:off x="4894560" y="4958640"/>
                  <a:ext cx="56880" cy="132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Line 37"/>
                <p:cNvSpPr/>
                <p:nvPr/>
              </p:nvSpPr>
              <p:spPr>
                <a:xfrm flipH="1" flipV="1">
                  <a:off x="4694760" y="5044680"/>
                  <a:ext cx="57240" cy="132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03" name="Line 38"/>
              <p:cNvSpPr/>
              <p:nvPr/>
            </p:nvSpPr>
            <p:spPr>
              <a:xfrm flipV="1">
                <a:off x="4723560" y="5025600"/>
                <a:ext cx="199800" cy="8568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4" name="Group 39"/>
            <p:cNvGrpSpPr/>
            <p:nvPr/>
          </p:nvGrpSpPr>
          <p:grpSpPr>
            <a:xfrm>
              <a:off x="4548600" y="5061600"/>
              <a:ext cx="169560" cy="171360"/>
              <a:chOff x="4548600" y="5061600"/>
              <a:chExt cx="169560" cy="171360"/>
            </a:xfrm>
          </p:grpSpPr>
          <p:grpSp>
            <p:nvGrpSpPr>
              <p:cNvPr id="305" name="Group 40"/>
              <p:cNvGrpSpPr/>
              <p:nvPr/>
            </p:nvGrpSpPr>
            <p:grpSpPr>
              <a:xfrm>
                <a:off x="4548600" y="5061600"/>
                <a:ext cx="169560" cy="171360"/>
                <a:chOff x="4548600" y="5061600"/>
                <a:chExt cx="169560" cy="171360"/>
              </a:xfrm>
            </p:grpSpPr>
            <p:sp>
              <p:nvSpPr>
                <p:cNvPr id="306" name="Line 41"/>
                <p:cNvSpPr/>
                <p:nvPr/>
              </p:nvSpPr>
              <p:spPr>
                <a:xfrm flipH="1" flipV="1">
                  <a:off x="4666680" y="5061600"/>
                  <a:ext cx="51480" cy="120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Line 42"/>
                <p:cNvSpPr/>
                <p:nvPr/>
              </p:nvSpPr>
              <p:spPr>
                <a:xfrm flipH="1" flipV="1">
                  <a:off x="4548600" y="5112720"/>
                  <a:ext cx="51840" cy="120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08" name="Line 43"/>
              <p:cNvSpPr/>
              <p:nvPr/>
            </p:nvSpPr>
            <p:spPr>
              <a:xfrm flipV="1">
                <a:off x="4574520" y="5121720"/>
                <a:ext cx="118080" cy="5076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9" name="Group 44"/>
            <p:cNvGrpSpPr/>
            <p:nvPr/>
          </p:nvGrpSpPr>
          <p:grpSpPr>
            <a:xfrm>
              <a:off x="4928040" y="4903560"/>
              <a:ext cx="169560" cy="171360"/>
              <a:chOff x="4928040" y="4903560"/>
              <a:chExt cx="169560" cy="171360"/>
            </a:xfrm>
          </p:grpSpPr>
          <p:grpSp>
            <p:nvGrpSpPr>
              <p:cNvPr id="310" name="Group 45"/>
              <p:cNvGrpSpPr/>
              <p:nvPr/>
            </p:nvGrpSpPr>
            <p:grpSpPr>
              <a:xfrm>
                <a:off x="4928040" y="4903560"/>
                <a:ext cx="169560" cy="171360"/>
                <a:chOff x="4928040" y="4903560"/>
                <a:chExt cx="169560" cy="171360"/>
              </a:xfrm>
            </p:grpSpPr>
            <p:sp>
              <p:nvSpPr>
                <p:cNvPr id="311" name="Line 46"/>
                <p:cNvSpPr/>
                <p:nvPr/>
              </p:nvSpPr>
              <p:spPr>
                <a:xfrm flipH="1" flipV="1">
                  <a:off x="5046120" y="4903560"/>
                  <a:ext cx="51480" cy="120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" name="Line 47"/>
                <p:cNvSpPr/>
                <p:nvPr/>
              </p:nvSpPr>
              <p:spPr>
                <a:xfrm flipH="1" flipV="1">
                  <a:off x="4928040" y="4954680"/>
                  <a:ext cx="51840" cy="120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3" name="Line 48"/>
              <p:cNvSpPr/>
              <p:nvPr/>
            </p:nvSpPr>
            <p:spPr>
              <a:xfrm flipV="1">
                <a:off x="4953960" y="4963680"/>
                <a:ext cx="118080" cy="5076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4" name="Group 49"/>
            <p:cNvGrpSpPr/>
            <p:nvPr/>
          </p:nvGrpSpPr>
          <p:grpSpPr>
            <a:xfrm>
              <a:off x="5999760" y="4325760"/>
              <a:ext cx="489960" cy="304200"/>
              <a:chOff x="5999760" y="4325760"/>
              <a:chExt cx="489960" cy="304200"/>
            </a:xfrm>
          </p:grpSpPr>
          <p:grpSp>
            <p:nvGrpSpPr>
              <p:cNvPr id="315" name="Group 50"/>
              <p:cNvGrpSpPr/>
              <p:nvPr/>
            </p:nvGrpSpPr>
            <p:grpSpPr>
              <a:xfrm>
                <a:off x="6118560" y="4369680"/>
                <a:ext cx="256680" cy="218520"/>
                <a:chOff x="6118560" y="4369680"/>
                <a:chExt cx="256680" cy="218520"/>
              </a:xfrm>
            </p:grpSpPr>
            <p:grpSp>
              <p:nvGrpSpPr>
                <p:cNvPr id="316" name="Group 51"/>
                <p:cNvGrpSpPr/>
                <p:nvPr/>
              </p:nvGrpSpPr>
              <p:grpSpPr>
                <a:xfrm>
                  <a:off x="6118560" y="4369680"/>
                  <a:ext cx="256680" cy="218520"/>
                  <a:chOff x="6118560" y="4369680"/>
                  <a:chExt cx="256680" cy="218520"/>
                </a:xfrm>
              </p:grpSpPr>
              <p:sp>
                <p:nvSpPr>
                  <p:cNvPr id="317" name="Line 52"/>
                  <p:cNvSpPr/>
                  <p:nvPr/>
                </p:nvSpPr>
                <p:spPr>
                  <a:xfrm flipH="1" flipV="1">
                    <a:off x="6318360" y="4369680"/>
                    <a:ext cx="56880" cy="1324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8" name="Line 53"/>
                  <p:cNvSpPr/>
                  <p:nvPr/>
                </p:nvSpPr>
                <p:spPr>
                  <a:xfrm flipH="1" flipV="1">
                    <a:off x="6118560" y="4455720"/>
                    <a:ext cx="57240" cy="1324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9" name="Line 54"/>
                <p:cNvSpPr/>
                <p:nvPr/>
              </p:nvSpPr>
              <p:spPr>
                <a:xfrm flipV="1">
                  <a:off x="6147360" y="4436640"/>
                  <a:ext cx="199800" cy="8568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0" name="Group 55"/>
              <p:cNvGrpSpPr/>
              <p:nvPr/>
            </p:nvGrpSpPr>
            <p:grpSpPr>
              <a:xfrm>
                <a:off x="5999760" y="4458960"/>
                <a:ext cx="169560" cy="171000"/>
                <a:chOff x="5999760" y="4458960"/>
                <a:chExt cx="169560" cy="171000"/>
              </a:xfrm>
            </p:grpSpPr>
            <p:grpSp>
              <p:nvGrpSpPr>
                <p:cNvPr id="321" name="Group 56"/>
                <p:cNvGrpSpPr/>
                <p:nvPr/>
              </p:nvGrpSpPr>
              <p:grpSpPr>
                <a:xfrm>
                  <a:off x="5999760" y="4458960"/>
                  <a:ext cx="169560" cy="171000"/>
                  <a:chOff x="5999760" y="4458960"/>
                  <a:chExt cx="169560" cy="171000"/>
                </a:xfrm>
              </p:grpSpPr>
              <p:sp>
                <p:nvSpPr>
                  <p:cNvPr id="322" name="Line 57"/>
                  <p:cNvSpPr/>
                  <p:nvPr/>
                </p:nvSpPr>
                <p:spPr>
                  <a:xfrm flipH="1" flipV="1">
                    <a:off x="6117840" y="4458960"/>
                    <a:ext cx="51480" cy="1202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3" name="Line 58"/>
                  <p:cNvSpPr/>
                  <p:nvPr/>
                </p:nvSpPr>
                <p:spPr>
                  <a:xfrm flipH="1" flipV="1">
                    <a:off x="5999760" y="4510080"/>
                    <a:ext cx="51480" cy="1198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4" name="Line 59"/>
                <p:cNvSpPr/>
                <p:nvPr/>
              </p:nvSpPr>
              <p:spPr>
                <a:xfrm flipV="1">
                  <a:off x="6026040" y="4519440"/>
                  <a:ext cx="118080" cy="5076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5" name="Group 60"/>
              <p:cNvGrpSpPr/>
              <p:nvPr/>
            </p:nvGrpSpPr>
            <p:grpSpPr>
              <a:xfrm>
                <a:off x="6320520" y="4325760"/>
                <a:ext cx="169200" cy="170640"/>
                <a:chOff x="6320520" y="4325760"/>
                <a:chExt cx="169200" cy="170640"/>
              </a:xfrm>
            </p:grpSpPr>
            <p:grpSp>
              <p:nvGrpSpPr>
                <p:cNvPr id="326" name="Group 61"/>
                <p:cNvGrpSpPr/>
                <p:nvPr/>
              </p:nvGrpSpPr>
              <p:grpSpPr>
                <a:xfrm>
                  <a:off x="6320520" y="4325760"/>
                  <a:ext cx="169200" cy="170640"/>
                  <a:chOff x="6320520" y="4325760"/>
                  <a:chExt cx="169200" cy="170640"/>
                </a:xfrm>
              </p:grpSpPr>
              <p:sp>
                <p:nvSpPr>
                  <p:cNvPr id="327" name="Line 62"/>
                  <p:cNvSpPr/>
                  <p:nvPr/>
                </p:nvSpPr>
                <p:spPr>
                  <a:xfrm flipH="1" flipV="1">
                    <a:off x="6438240" y="4325760"/>
                    <a:ext cx="51480" cy="1198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Line 63"/>
                  <p:cNvSpPr/>
                  <p:nvPr/>
                </p:nvSpPr>
                <p:spPr>
                  <a:xfrm flipH="1" flipV="1">
                    <a:off x="6320520" y="4376520"/>
                    <a:ext cx="51480" cy="1198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Line 64"/>
                <p:cNvSpPr/>
                <p:nvPr/>
              </p:nvSpPr>
              <p:spPr>
                <a:xfrm flipV="1">
                  <a:off x="6346080" y="4385880"/>
                  <a:ext cx="118080" cy="5040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30" name="door"/>
            <p:cNvSpPr/>
            <p:nvPr/>
          </p:nvSpPr>
          <p:spPr>
            <a:xfrm flipH="1" flipV="1" rot="9270000">
              <a:off x="5366880" y="4561560"/>
              <a:ext cx="211680" cy="216000"/>
            </a:xfrm>
            <a:custGeom>
              <a:avLst/>
              <a:gdLst>
                <a:gd name="textAreaLeft" fmla="*/ 25920 w 211680"/>
                <a:gd name="textAreaRight" fmla="*/ 132120 w 211680"/>
                <a:gd name="textAreaTop" fmla="*/ 112680 h 216000"/>
                <a:gd name="textAreaBottom" fmla="*/ 201240 h 21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21600"/>
                  </a:moveTo>
                  <a:lnTo>
                    <a:pt x="6007" y="127"/>
                  </a:lnTo>
                  <a:lnTo>
                    <a:pt x="4665" y="2541"/>
                  </a:lnTo>
                  <a:lnTo>
                    <a:pt x="3579" y="5209"/>
                  </a:lnTo>
                  <a:lnTo>
                    <a:pt x="2492" y="8259"/>
                  </a:lnTo>
                  <a:lnTo>
                    <a:pt x="1598" y="11308"/>
                  </a:lnTo>
                  <a:lnTo>
                    <a:pt x="959" y="14739"/>
                  </a:lnTo>
                  <a:lnTo>
                    <a:pt x="383" y="18169"/>
                  </a:lnTo>
                  <a:lnTo>
                    <a:pt x="0" y="2160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Line 66"/>
            <p:cNvSpPr/>
            <p:nvPr/>
          </p:nvSpPr>
          <p:spPr>
            <a:xfrm flipV="1">
              <a:off x="5423760" y="4720680"/>
              <a:ext cx="196560" cy="936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2" name="Group 67"/>
            <p:cNvGrpSpPr/>
            <p:nvPr/>
          </p:nvGrpSpPr>
          <p:grpSpPr>
            <a:xfrm>
              <a:off x="5234040" y="4614480"/>
              <a:ext cx="548280" cy="328680"/>
              <a:chOff x="5234040" y="4614480"/>
              <a:chExt cx="548280" cy="328680"/>
            </a:xfrm>
          </p:grpSpPr>
          <p:grpSp>
            <p:nvGrpSpPr>
              <p:cNvPr id="333" name="Group 68"/>
              <p:cNvGrpSpPr/>
              <p:nvPr/>
            </p:nvGrpSpPr>
            <p:grpSpPr>
              <a:xfrm>
                <a:off x="5234040" y="4772160"/>
                <a:ext cx="169200" cy="171000"/>
                <a:chOff x="5234040" y="4772160"/>
                <a:chExt cx="169200" cy="171000"/>
              </a:xfrm>
            </p:grpSpPr>
            <p:grpSp>
              <p:nvGrpSpPr>
                <p:cNvPr id="334" name="Group 69"/>
                <p:cNvGrpSpPr/>
                <p:nvPr/>
              </p:nvGrpSpPr>
              <p:grpSpPr>
                <a:xfrm>
                  <a:off x="5234040" y="4772160"/>
                  <a:ext cx="169200" cy="171000"/>
                  <a:chOff x="5234040" y="4772160"/>
                  <a:chExt cx="169200" cy="171000"/>
                </a:xfrm>
              </p:grpSpPr>
              <p:sp>
                <p:nvSpPr>
                  <p:cNvPr id="335" name="Line 70"/>
                  <p:cNvSpPr/>
                  <p:nvPr/>
                </p:nvSpPr>
                <p:spPr>
                  <a:xfrm flipH="1" flipV="1">
                    <a:off x="5351760" y="4772160"/>
                    <a:ext cx="51480" cy="1202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6" name="Line 71"/>
                  <p:cNvSpPr/>
                  <p:nvPr/>
                </p:nvSpPr>
                <p:spPr>
                  <a:xfrm flipH="1" flipV="1">
                    <a:off x="5234040" y="4822920"/>
                    <a:ext cx="51480" cy="1202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37" name="Line 72"/>
                <p:cNvSpPr/>
                <p:nvPr/>
              </p:nvSpPr>
              <p:spPr>
                <a:xfrm flipV="1">
                  <a:off x="5259960" y="4833000"/>
                  <a:ext cx="117720" cy="5040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8" name="Group 73"/>
              <p:cNvGrpSpPr/>
              <p:nvPr/>
            </p:nvGrpSpPr>
            <p:grpSpPr>
              <a:xfrm>
                <a:off x="5613120" y="4614480"/>
                <a:ext cx="169200" cy="171000"/>
                <a:chOff x="5613120" y="4614480"/>
                <a:chExt cx="169200" cy="171000"/>
              </a:xfrm>
            </p:grpSpPr>
            <p:grpSp>
              <p:nvGrpSpPr>
                <p:cNvPr id="339" name="Group 74"/>
                <p:cNvGrpSpPr/>
                <p:nvPr/>
              </p:nvGrpSpPr>
              <p:grpSpPr>
                <a:xfrm>
                  <a:off x="5613120" y="4614480"/>
                  <a:ext cx="169200" cy="171000"/>
                  <a:chOff x="5613120" y="4614480"/>
                  <a:chExt cx="169200" cy="171000"/>
                </a:xfrm>
              </p:grpSpPr>
              <p:sp>
                <p:nvSpPr>
                  <p:cNvPr id="340" name="Line 75"/>
                  <p:cNvSpPr/>
                  <p:nvPr/>
                </p:nvSpPr>
                <p:spPr>
                  <a:xfrm flipH="1" flipV="1">
                    <a:off x="5730840" y="4614480"/>
                    <a:ext cx="51480" cy="1202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1" name="Line 76"/>
                  <p:cNvSpPr/>
                  <p:nvPr/>
                </p:nvSpPr>
                <p:spPr>
                  <a:xfrm flipH="1" flipV="1">
                    <a:off x="5613120" y="4665240"/>
                    <a:ext cx="51480" cy="1202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2" name="Line 77"/>
                <p:cNvSpPr/>
                <p:nvPr/>
              </p:nvSpPr>
              <p:spPr>
                <a:xfrm flipV="1">
                  <a:off x="5639040" y="4675320"/>
                  <a:ext cx="117720" cy="5040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43" name="Group 78"/>
            <p:cNvGrpSpPr/>
            <p:nvPr/>
          </p:nvGrpSpPr>
          <p:grpSpPr>
            <a:xfrm>
              <a:off x="2319840" y="4190760"/>
              <a:ext cx="217440" cy="144360"/>
              <a:chOff x="2319840" y="4190760"/>
              <a:chExt cx="217440" cy="144360"/>
            </a:xfrm>
          </p:grpSpPr>
          <p:grpSp>
            <p:nvGrpSpPr>
              <p:cNvPr id="344" name="Group 79"/>
              <p:cNvGrpSpPr/>
              <p:nvPr/>
            </p:nvGrpSpPr>
            <p:grpSpPr>
              <a:xfrm>
                <a:off x="2319840" y="4190760"/>
                <a:ext cx="217440" cy="144360"/>
                <a:chOff x="2319840" y="4190760"/>
                <a:chExt cx="217440" cy="144360"/>
              </a:xfrm>
            </p:grpSpPr>
            <p:sp>
              <p:nvSpPr>
                <p:cNvPr id="345" name="Line 80"/>
                <p:cNvSpPr/>
                <p:nvPr/>
              </p:nvSpPr>
              <p:spPr>
                <a:xfrm flipV="1">
                  <a:off x="2537280" y="4190760"/>
                  <a:ext cx="0" cy="144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Line 81"/>
                <p:cNvSpPr/>
                <p:nvPr/>
              </p:nvSpPr>
              <p:spPr>
                <a:xfrm flipV="1">
                  <a:off x="2319840" y="4190760"/>
                  <a:ext cx="0" cy="144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Line 82"/>
              <p:cNvSpPr/>
              <p:nvPr/>
            </p:nvSpPr>
            <p:spPr>
              <a:xfrm>
                <a:off x="2319840" y="4263480"/>
                <a:ext cx="21744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8" name="Group 83"/>
            <p:cNvGrpSpPr/>
            <p:nvPr/>
          </p:nvGrpSpPr>
          <p:grpSpPr>
            <a:xfrm>
              <a:off x="2900520" y="4190760"/>
              <a:ext cx="217440" cy="144360"/>
              <a:chOff x="2900520" y="4190760"/>
              <a:chExt cx="217440" cy="144360"/>
            </a:xfrm>
          </p:grpSpPr>
          <p:grpSp>
            <p:nvGrpSpPr>
              <p:cNvPr id="349" name="Group 84"/>
              <p:cNvGrpSpPr/>
              <p:nvPr/>
            </p:nvGrpSpPr>
            <p:grpSpPr>
              <a:xfrm>
                <a:off x="2900520" y="4190760"/>
                <a:ext cx="217440" cy="144360"/>
                <a:chOff x="2900520" y="4190760"/>
                <a:chExt cx="217440" cy="144360"/>
              </a:xfrm>
            </p:grpSpPr>
            <p:sp>
              <p:nvSpPr>
                <p:cNvPr id="350" name="Line 85"/>
                <p:cNvSpPr/>
                <p:nvPr/>
              </p:nvSpPr>
              <p:spPr>
                <a:xfrm flipV="1">
                  <a:off x="3117960" y="4190760"/>
                  <a:ext cx="0" cy="144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1" name="Line 86"/>
                <p:cNvSpPr/>
                <p:nvPr/>
              </p:nvSpPr>
              <p:spPr>
                <a:xfrm flipV="1">
                  <a:off x="2900520" y="4190760"/>
                  <a:ext cx="0" cy="144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52" name="Line 87"/>
              <p:cNvSpPr/>
              <p:nvPr/>
            </p:nvSpPr>
            <p:spPr>
              <a:xfrm>
                <a:off x="2900520" y="4263480"/>
                <a:ext cx="21744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3" name="Group 88"/>
            <p:cNvGrpSpPr/>
            <p:nvPr/>
          </p:nvGrpSpPr>
          <p:grpSpPr>
            <a:xfrm>
              <a:off x="1449000" y="2611800"/>
              <a:ext cx="145080" cy="216720"/>
              <a:chOff x="1449000" y="2611800"/>
              <a:chExt cx="145080" cy="216720"/>
            </a:xfrm>
          </p:grpSpPr>
          <p:grpSp>
            <p:nvGrpSpPr>
              <p:cNvPr id="354" name="Group 89"/>
              <p:cNvGrpSpPr/>
              <p:nvPr/>
            </p:nvGrpSpPr>
            <p:grpSpPr>
              <a:xfrm>
                <a:off x="1449000" y="2611800"/>
                <a:ext cx="145080" cy="216360"/>
                <a:chOff x="1449000" y="2611800"/>
                <a:chExt cx="145080" cy="216360"/>
              </a:xfrm>
            </p:grpSpPr>
            <p:sp>
              <p:nvSpPr>
                <p:cNvPr id="355" name="Line 90"/>
                <p:cNvSpPr/>
                <p:nvPr/>
              </p:nvSpPr>
              <p:spPr>
                <a:xfrm>
                  <a:off x="1449000" y="2828160"/>
                  <a:ext cx="1450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6" name="Line 91"/>
                <p:cNvSpPr/>
                <p:nvPr/>
              </p:nvSpPr>
              <p:spPr>
                <a:xfrm>
                  <a:off x="1449000" y="2611800"/>
                  <a:ext cx="1450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57" name="Line 92"/>
              <p:cNvSpPr/>
              <p:nvPr/>
            </p:nvSpPr>
            <p:spPr>
              <a:xfrm>
                <a:off x="1521000" y="2612160"/>
                <a:ext cx="0" cy="21636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8" name="Group 93"/>
            <p:cNvGrpSpPr/>
            <p:nvPr/>
          </p:nvGrpSpPr>
          <p:grpSpPr>
            <a:xfrm>
              <a:off x="1956960" y="1828080"/>
              <a:ext cx="217440" cy="144360"/>
              <a:chOff x="1956960" y="1828080"/>
              <a:chExt cx="217440" cy="144360"/>
            </a:xfrm>
          </p:grpSpPr>
          <p:grpSp>
            <p:nvGrpSpPr>
              <p:cNvPr id="359" name="Group 94"/>
              <p:cNvGrpSpPr/>
              <p:nvPr/>
            </p:nvGrpSpPr>
            <p:grpSpPr>
              <a:xfrm>
                <a:off x="1956960" y="1828080"/>
                <a:ext cx="217440" cy="144360"/>
                <a:chOff x="1956960" y="1828080"/>
                <a:chExt cx="217440" cy="144360"/>
              </a:xfrm>
            </p:grpSpPr>
            <p:sp>
              <p:nvSpPr>
                <p:cNvPr id="360" name="Line 95"/>
                <p:cNvSpPr/>
                <p:nvPr/>
              </p:nvSpPr>
              <p:spPr>
                <a:xfrm flipV="1">
                  <a:off x="2174400" y="1828080"/>
                  <a:ext cx="0" cy="144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Line 96"/>
                <p:cNvSpPr/>
                <p:nvPr/>
              </p:nvSpPr>
              <p:spPr>
                <a:xfrm flipV="1">
                  <a:off x="1956960" y="1828080"/>
                  <a:ext cx="0" cy="144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62" name="Line 97"/>
              <p:cNvSpPr/>
              <p:nvPr/>
            </p:nvSpPr>
            <p:spPr>
              <a:xfrm>
                <a:off x="1956960" y="1900800"/>
                <a:ext cx="21744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3" name="Group 98"/>
            <p:cNvGrpSpPr/>
            <p:nvPr/>
          </p:nvGrpSpPr>
          <p:grpSpPr>
            <a:xfrm>
              <a:off x="3119760" y="1419120"/>
              <a:ext cx="452880" cy="301320"/>
              <a:chOff x="3119760" y="1419120"/>
              <a:chExt cx="452880" cy="301320"/>
            </a:xfrm>
          </p:grpSpPr>
          <p:grpSp>
            <p:nvGrpSpPr>
              <p:cNvPr id="364" name="Group 99"/>
              <p:cNvGrpSpPr/>
              <p:nvPr/>
            </p:nvGrpSpPr>
            <p:grpSpPr>
              <a:xfrm>
                <a:off x="3119760" y="1502280"/>
                <a:ext cx="256320" cy="218160"/>
                <a:chOff x="3119760" y="1502280"/>
                <a:chExt cx="256320" cy="218160"/>
              </a:xfrm>
            </p:grpSpPr>
            <p:sp>
              <p:nvSpPr>
                <p:cNvPr id="365" name="Line 100"/>
                <p:cNvSpPr/>
                <p:nvPr/>
              </p:nvSpPr>
              <p:spPr>
                <a:xfrm flipH="1" flipV="1">
                  <a:off x="3319200" y="1502280"/>
                  <a:ext cx="56880" cy="132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6" name="Line 101"/>
                <p:cNvSpPr/>
                <p:nvPr/>
              </p:nvSpPr>
              <p:spPr>
                <a:xfrm flipH="1" flipV="1">
                  <a:off x="3119760" y="1588320"/>
                  <a:ext cx="56880" cy="132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67" name="Line 102"/>
              <p:cNvSpPr/>
              <p:nvPr/>
            </p:nvSpPr>
            <p:spPr>
              <a:xfrm flipV="1">
                <a:off x="3148200" y="1568880"/>
                <a:ext cx="199440" cy="8568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68" name="Group 103"/>
              <p:cNvGrpSpPr/>
              <p:nvPr/>
            </p:nvGrpSpPr>
            <p:grpSpPr>
              <a:xfrm>
                <a:off x="3315960" y="1419120"/>
                <a:ext cx="256680" cy="218520"/>
                <a:chOff x="3315960" y="1419120"/>
                <a:chExt cx="256680" cy="218520"/>
              </a:xfrm>
            </p:grpSpPr>
            <p:grpSp>
              <p:nvGrpSpPr>
                <p:cNvPr id="369" name="Group 104"/>
                <p:cNvGrpSpPr/>
                <p:nvPr/>
              </p:nvGrpSpPr>
              <p:grpSpPr>
                <a:xfrm>
                  <a:off x="3315960" y="1419120"/>
                  <a:ext cx="256680" cy="218520"/>
                  <a:chOff x="3315960" y="1419120"/>
                  <a:chExt cx="256680" cy="218520"/>
                </a:xfrm>
              </p:grpSpPr>
              <p:sp>
                <p:nvSpPr>
                  <p:cNvPr id="370" name="Line 105"/>
                  <p:cNvSpPr/>
                  <p:nvPr/>
                </p:nvSpPr>
                <p:spPr>
                  <a:xfrm flipH="1" flipV="1">
                    <a:off x="3515760" y="1419120"/>
                    <a:ext cx="56880" cy="1324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1" name="Line 106"/>
                  <p:cNvSpPr/>
                  <p:nvPr/>
                </p:nvSpPr>
                <p:spPr>
                  <a:xfrm flipH="1" flipV="1">
                    <a:off x="3315960" y="1505160"/>
                    <a:ext cx="57240" cy="1324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72" name="Line 107"/>
                <p:cNvSpPr/>
                <p:nvPr/>
              </p:nvSpPr>
              <p:spPr>
                <a:xfrm flipV="1">
                  <a:off x="3344760" y="1486080"/>
                  <a:ext cx="199800" cy="8568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73" name="Group 108"/>
            <p:cNvGrpSpPr/>
            <p:nvPr/>
          </p:nvGrpSpPr>
          <p:grpSpPr>
            <a:xfrm>
              <a:off x="2662200" y="1690920"/>
              <a:ext cx="286560" cy="218520"/>
              <a:chOff x="2662200" y="1690920"/>
              <a:chExt cx="286560" cy="218520"/>
            </a:xfrm>
          </p:grpSpPr>
          <p:grpSp>
            <p:nvGrpSpPr>
              <p:cNvPr id="374" name="Group 109"/>
              <p:cNvGrpSpPr/>
              <p:nvPr/>
            </p:nvGrpSpPr>
            <p:grpSpPr>
              <a:xfrm>
                <a:off x="2662200" y="1738800"/>
                <a:ext cx="169200" cy="170640"/>
                <a:chOff x="2662200" y="1738800"/>
                <a:chExt cx="169200" cy="170640"/>
              </a:xfrm>
            </p:grpSpPr>
            <p:grpSp>
              <p:nvGrpSpPr>
                <p:cNvPr id="375" name="Group 110"/>
                <p:cNvGrpSpPr/>
                <p:nvPr/>
              </p:nvGrpSpPr>
              <p:grpSpPr>
                <a:xfrm>
                  <a:off x="2662200" y="1738800"/>
                  <a:ext cx="169200" cy="170640"/>
                  <a:chOff x="2662200" y="1738800"/>
                  <a:chExt cx="169200" cy="170640"/>
                </a:xfrm>
              </p:grpSpPr>
              <p:sp>
                <p:nvSpPr>
                  <p:cNvPr id="376" name="Line 111"/>
                  <p:cNvSpPr/>
                  <p:nvPr/>
                </p:nvSpPr>
                <p:spPr>
                  <a:xfrm flipH="1" flipV="1">
                    <a:off x="2779920" y="1738800"/>
                    <a:ext cx="51480" cy="1198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7" name="Line 112"/>
                  <p:cNvSpPr/>
                  <p:nvPr/>
                </p:nvSpPr>
                <p:spPr>
                  <a:xfrm flipH="1" flipV="1">
                    <a:off x="2662200" y="1789560"/>
                    <a:ext cx="51480" cy="1198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78" name="Line 113"/>
                <p:cNvSpPr/>
                <p:nvPr/>
              </p:nvSpPr>
              <p:spPr>
                <a:xfrm flipV="1">
                  <a:off x="2687760" y="1798920"/>
                  <a:ext cx="118080" cy="5040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9" name="Group 114"/>
              <p:cNvGrpSpPr/>
              <p:nvPr/>
            </p:nvGrpSpPr>
            <p:grpSpPr>
              <a:xfrm>
                <a:off x="2779560" y="1690920"/>
                <a:ext cx="169200" cy="170640"/>
                <a:chOff x="2779560" y="1690920"/>
                <a:chExt cx="169200" cy="170640"/>
              </a:xfrm>
            </p:grpSpPr>
            <p:grpSp>
              <p:nvGrpSpPr>
                <p:cNvPr id="380" name="Group 115"/>
                <p:cNvGrpSpPr/>
                <p:nvPr/>
              </p:nvGrpSpPr>
              <p:grpSpPr>
                <a:xfrm>
                  <a:off x="2779560" y="1690920"/>
                  <a:ext cx="169200" cy="170640"/>
                  <a:chOff x="2779560" y="1690920"/>
                  <a:chExt cx="169200" cy="170640"/>
                </a:xfrm>
              </p:grpSpPr>
              <p:sp>
                <p:nvSpPr>
                  <p:cNvPr id="381" name="Line 116"/>
                  <p:cNvSpPr/>
                  <p:nvPr/>
                </p:nvSpPr>
                <p:spPr>
                  <a:xfrm flipH="1" flipV="1">
                    <a:off x="2897280" y="1690920"/>
                    <a:ext cx="51480" cy="1198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2" name="Line 117"/>
                  <p:cNvSpPr/>
                  <p:nvPr/>
                </p:nvSpPr>
                <p:spPr>
                  <a:xfrm flipH="1" flipV="1">
                    <a:off x="2779560" y="1741680"/>
                    <a:ext cx="51480" cy="1198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83" name="Line 118"/>
                <p:cNvSpPr/>
                <p:nvPr/>
              </p:nvSpPr>
              <p:spPr>
                <a:xfrm flipV="1">
                  <a:off x="2805120" y="1751040"/>
                  <a:ext cx="118080" cy="5040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84" name="Group 119"/>
            <p:cNvGrpSpPr/>
            <p:nvPr/>
          </p:nvGrpSpPr>
          <p:grpSpPr>
            <a:xfrm>
              <a:off x="3679200" y="1191600"/>
              <a:ext cx="452880" cy="301320"/>
              <a:chOff x="3679200" y="1191600"/>
              <a:chExt cx="452880" cy="301320"/>
            </a:xfrm>
          </p:grpSpPr>
          <p:grpSp>
            <p:nvGrpSpPr>
              <p:cNvPr id="385" name="Group 120"/>
              <p:cNvGrpSpPr/>
              <p:nvPr/>
            </p:nvGrpSpPr>
            <p:grpSpPr>
              <a:xfrm>
                <a:off x="3679200" y="1274760"/>
                <a:ext cx="256320" cy="218160"/>
                <a:chOff x="3679200" y="1274760"/>
                <a:chExt cx="256320" cy="218160"/>
              </a:xfrm>
            </p:grpSpPr>
            <p:sp>
              <p:nvSpPr>
                <p:cNvPr id="386" name="Line 121"/>
                <p:cNvSpPr/>
                <p:nvPr/>
              </p:nvSpPr>
              <p:spPr>
                <a:xfrm flipH="1" flipV="1">
                  <a:off x="3878640" y="1274760"/>
                  <a:ext cx="56880" cy="132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7" name="Line 122"/>
                <p:cNvSpPr/>
                <p:nvPr/>
              </p:nvSpPr>
              <p:spPr>
                <a:xfrm flipH="1" flipV="1">
                  <a:off x="3679200" y="1360800"/>
                  <a:ext cx="56880" cy="132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88" name="Line 123"/>
              <p:cNvSpPr/>
              <p:nvPr/>
            </p:nvSpPr>
            <p:spPr>
              <a:xfrm flipV="1">
                <a:off x="3707640" y="1341360"/>
                <a:ext cx="199440" cy="8568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89" name="Group 124"/>
              <p:cNvGrpSpPr/>
              <p:nvPr/>
            </p:nvGrpSpPr>
            <p:grpSpPr>
              <a:xfrm>
                <a:off x="3875400" y="1191600"/>
                <a:ext cx="256680" cy="218520"/>
                <a:chOff x="3875400" y="1191600"/>
                <a:chExt cx="256680" cy="218520"/>
              </a:xfrm>
            </p:grpSpPr>
            <p:grpSp>
              <p:nvGrpSpPr>
                <p:cNvPr id="390" name="Group 125"/>
                <p:cNvGrpSpPr/>
                <p:nvPr/>
              </p:nvGrpSpPr>
              <p:grpSpPr>
                <a:xfrm>
                  <a:off x="3875400" y="1191600"/>
                  <a:ext cx="256680" cy="218520"/>
                  <a:chOff x="3875400" y="1191600"/>
                  <a:chExt cx="256680" cy="218520"/>
                </a:xfrm>
              </p:grpSpPr>
              <p:sp>
                <p:nvSpPr>
                  <p:cNvPr id="391" name="Line 126"/>
                  <p:cNvSpPr/>
                  <p:nvPr/>
                </p:nvSpPr>
                <p:spPr>
                  <a:xfrm flipH="1" flipV="1">
                    <a:off x="4075200" y="1191600"/>
                    <a:ext cx="56880" cy="1324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2" name="Line 127"/>
                  <p:cNvSpPr/>
                  <p:nvPr/>
                </p:nvSpPr>
                <p:spPr>
                  <a:xfrm flipH="1" flipV="1">
                    <a:off x="3875400" y="1277640"/>
                    <a:ext cx="57240" cy="1324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93" name="Line 128"/>
                <p:cNvSpPr/>
                <p:nvPr/>
              </p:nvSpPr>
              <p:spPr>
                <a:xfrm flipV="1">
                  <a:off x="3904200" y="1258560"/>
                  <a:ext cx="199800" cy="8568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94" name="Group 129"/>
            <p:cNvGrpSpPr/>
            <p:nvPr/>
          </p:nvGrpSpPr>
          <p:grpSpPr>
            <a:xfrm>
              <a:off x="4520160" y="930600"/>
              <a:ext cx="286920" cy="218520"/>
              <a:chOff x="4520160" y="930600"/>
              <a:chExt cx="286920" cy="218520"/>
            </a:xfrm>
          </p:grpSpPr>
          <p:grpSp>
            <p:nvGrpSpPr>
              <p:cNvPr id="395" name="Group 130"/>
              <p:cNvGrpSpPr/>
              <p:nvPr/>
            </p:nvGrpSpPr>
            <p:grpSpPr>
              <a:xfrm>
                <a:off x="4520160" y="978480"/>
                <a:ext cx="169200" cy="170640"/>
                <a:chOff x="4520160" y="978480"/>
                <a:chExt cx="169200" cy="170640"/>
              </a:xfrm>
            </p:grpSpPr>
            <p:grpSp>
              <p:nvGrpSpPr>
                <p:cNvPr id="396" name="Group 131"/>
                <p:cNvGrpSpPr/>
                <p:nvPr/>
              </p:nvGrpSpPr>
              <p:grpSpPr>
                <a:xfrm>
                  <a:off x="4520160" y="978480"/>
                  <a:ext cx="169200" cy="170640"/>
                  <a:chOff x="4520160" y="978480"/>
                  <a:chExt cx="169200" cy="170640"/>
                </a:xfrm>
              </p:grpSpPr>
              <p:sp>
                <p:nvSpPr>
                  <p:cNvPr id="397" name="Line 132"/>
                  <p:cNvSpPr/>
                  <p:nvPr/>
                </p:nvSpPr>
                <p:spPr>
                  <a:xfrm flipH="1" flipV="1">
                    <a:off x="4637880" y="978480"/>
                    <a:ext cx="51480" cy="1198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8" name="Line 133"/>
                  <p:cNvSpPr/>
                  <p:nvPr/>
                </p:nvSpPr>
                <p:spPr>
                  <a:xfrm flipH="1" flipV="1">
                    <a:off x="4520160" y="1029240"/>
                    <a:ext cx="51480" cy="1198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99" name="Line 134"/>
                <p:cNvSpPr/>
                <p:nvPr/>
              </p:nvSpPr>
              <p:spPr>
                <a:xfrm flipV="1">
                  <a:off x="4545720" y="1038600"/>
                  <a:ext cx="118080" cy="5040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0" name="Group 135"/>
              <p:cNvGrpSpPr/>
              <p:nvPr/>
            </p:nvGrpSpPr>
            <p:grpSpPr>
              <a:xfrm>
                <a:off x="4637880" y="930600"/>
                <a:ext cx="169200" cy="170640"/>
                <a:chOff x="4637880" y="930600"/>
                <a:chExt cx="169200" cy="170640"/>
              </a:xfrm>
            </p:grpSpPr>
            <p:grpSp>
              <p:nvGrpSpPr>
                <p:cNvPr id="401" name="Group 136"/>
                <p:cNvGrpSpPr/>
                <p:nvPr/>
              </p:nvGrpSpPr>
              <p:grpSpPr>
                <a:xfrm>
                  <a:off x="4637880" y="930600"/>
                  <a:ext cx="169200" cy="170640"/>
                  <a:chOff x="4637880" y="930600"/>
                  <a:chExt cx="169200" cy="170640"/>
                </a:xfrm>
              </p:grpSpPr>
              <p:sp>
                <p:nvSpPr>
                  <p:cNvPr id="402" name="Line 137"/>
                  <p:cNvSpPr/>
                  <p:nvPr/>
                </p:nvSpPr>
                <p:spPr>
                  <a:xfrm flipH="1" flipV="1">
                    <a:off x="4755600" y="930600"/>
                    <a:ext cx="51480" cy="1198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3" name="Line 138"/>
                  <p:cNvSpPr/>
                  <p:nvPr/>
                </p:nvSpPr>
                <p:spPr>
                  <a:xfrm flipH="1" flipV="1">
                    <a:off x="4637880" y="981360"/>
                    <a:ext cx="51480" cy="1198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04" name="Line 139"/>
                <p:cNvSpPr/>
                <p:nvPr/>
              </p:nvSpPr>
              <p:spPr>
                <a:xfrm flipV="1">
                  <a:off x="4663440" y="990720"/>
                  <a:ext cx="118080" cy="5040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05" name="Group 140"/>
            <p:cNvGrpSpPr/>
            <p:nvPr/>
          </p:nvGrpSpPr>
          <p:grpSpPr>
            <a:xfrm>
              <a:off x="6383880" y="1828080"/>
              <a:ext cx="1449000" cy="133560"/>
              <a:chOff x="6383880" y="1828080"/>
              <a:chExt cx="1449000" cy="133560"/>
            </a:xfrm>
          </p:grpSpPr>
          <p:grpSp>
            <p:nvGrpSpPr>
              <p:cNvPr id="406" name="Group 141"/>
              <p:cNvGrpSpPr/>
              <p:nvPr/>
            </p:nvGrpSpPr>
            <p:grpSpPr>
              <a:xfrm>
                <a:off x="6384240" y="1828080"/>
                <a:ext cx="1448280" cy="133560"/>
                <a:chOff x="6384240" y="1828080"/>
                <a:chExt cx="1448280" cy="133560"/>
              </a:xfrm>
            </p:grpSpPr>
            <p:sp>
              <p:nvSpPr>
                <p:cNvPr id="407" name="Line 142"/>
                <p:cNvSpPr/>
                <p:nvPr/>
              </p:nvSpPr>
              <p:spPr>
                <a:xfrm flipV="1">
                  <a:off x="7832520" y="1828080"/>
                  <a:ext cx="0" cy="133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8" name="Line 143"/>
                <p:cNvSpPr/>
                <p:nvPr/>
              </p:nvSpPr>
              <p:spPr>
                <a:xfrm flipV="1">
                  <a:off x="6384240" y="1828080"/>
                  <a:ext cx="0" cy="133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09" name="Line 144"/>
              <p:cNvSpPr/>
              <p:nvPr/>
            </p:nvSpPr>
            <p:spPr>
              <a:xfrm>
                <a:off x="6383880" y="1895400"/>
                <a:ext cx="144900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10" name="Line 145"/>
            <p:cNvSpPr/>
            <p:nvPr/>
          </p:nvSpPr>
          <p:spPr>
            <a:xfrm>
              <a:off x="5875560" y="2973600"/>
              <a:ext cx="798120" cy="1299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146"/>
            <p:cNvSpPr/>
            <p:nvPr/>
          </p:nvSpPr>
          <p:spPr>
            <a:xfrm>
              <a:off x="5865120" y="1890000"/>
              <a:ext cx="0" cy="108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147"/>
            <p:cNvSpPr/>
            <p:nvPr/>
          </p:nvSpPr>
          <p:spPr>
            <a:xfrm>
              <a:off x="2102040" y="950760"/>
              <a:ext cx="514080" cy="96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148"/>
            <p:cNvSpPr/>
            <p:nvPr/>
          </p:nvSpPr>
          <p:spPr>
            <a:xfrm>
              <a:off x="3771360" y="300600"/>
              <a:ext cx="513720" cy="890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149"/>
            <p:cNvSpPr/>
            <p:nvPr/>
          </p:nvSpPr>
          <p:spPr>
            <a:xfrm flipH="1">
              <a:off x="2101680" y="273600"/>
              <a:ext cx="1662840" cy="677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150"/>
            <p:cNvSpPr/>
            <p:nvPr/>
          </p:nvSpPr>
          <p:spPr>
            <a:xfrm flipH="1">
              <a:off x="2590200" y="2972160"/>
              <a:ext cx="118044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151"/>
            <p:cNvSpPr/>
            <p:nvPr/>
          </p:nvSpPr>
          <p:spPr>
            <a:xfrm>
              <a:off x="2588760" y="1890000"/>
              <a:ext cx="0" cy="108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152"/>
            <p:cNvSpPr/>
            <p:nvPr/>
          </p:nvSpPr>
          <p:spPr>
            <a:xfrm>
              <a:off x="3408120" y="2973600"/>
              <a:ext cx="0" cy="1299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153"/>
            <p:cNvSpPr/>
            <p:nvPr/>
          </p:nvSpPr>
          <p:spPr>
            <a:xfrm flipH="1">
              <a:off x="5347800" y="2973600"/>
              <a:ext cx="527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Rectangle 154"/>
            <p:cNvSpPr/>
            <p:nvPr/>
          </p:nvSpPr>
          <p:spPr>
            <a:xfrm>
              <a:off x="5513040" y="2666520"/>
              <a:ext cx="338040" cy="306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0" name="Group 155"/>
            <p:cNvGrpSpPr/>
            <p:nvPr/>
          </p:nvGrpSpPr>
          <p:grpSpPr>
            <a:xfrm>
              <a:off x="5513040" y="2849400"/>
              <a:ext cx="110160" cy="123840"/>
              <a:chOff x="5513040" y="2849400"/>
              <a:chExt cx="110160" cy="123840"/>
            </a:xfrm>
          </p:grpSpPr>
          <p:sp>
            <p:nvSpPr>
              <p:cNvPr id="421" name="door"/>
              <p:cNvSpPr/>
              <p:nvPr/>
            </p:nvSpPr>
            <p:spPr>
              <a:xfrm flipH="1" flipV="1" rot="16200000">
                <a:off x="5508360" y="2853360"/>
                <a:ext cx="119160" cy="110160"/>
              </a:xfrm>
              <a:custGeom>
                <a:avLst/>
                <a:gdLst>
                  <a:gd name="textAreaLeft" fmla="*/ 13680 w 119160"/>
                  <a:gd name="textAreaRight" fmla="*/ 74160 w 119160"/>
                  <a:gd name="textAreaTop" fmla="*/ 57240 h 110160"/>
                  <a:gd name="textAreaBottom" fmla="*/ 103680 h 110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21600"/>
                    </a:moveTo>
                    <a:lnTo>
                      <a:pt x="6007" y="127"/>
                    </a:lnTo>
                    <a:lnTo>
                      <a:pt x="4665" y="2541"/>
                    </a:lnTo>
                    <a:lnTo>
                      <a:pt x="3579" y="5209"/>
                    </a:lnTo>
                    <a:lnTo>
                      <a:pt x="2492" y="8259"/>
                    </a:lnTo>
                    <a:lnTo>
                      <a:pt x="1598" y="11308"/>
                    </a:lnTo>
                    <a:lnTo>
                      <a:pt x="959" y="14739"/>
                    </a:lnTo>
                    <a:lnTo>
                      <a:pt x="383" y="18169"/>
                    </a:lnTo>
                    <a:lnTo>
                      <a:pt x="0" y="2160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 rot="10800000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Line 157"/>
              <p:cNvSpPr/>
              <p:nvPr/>
            </p:nvSpPr>
            <p:spPr>
              <a:xfrm>
                <a:off x="5513040" y="2850120"/>
                <a:ext cx="0" cy="1231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3" name="Group 158"/>
            <p:cNvGrpSpPr/>
            <p:nvPr/>
          </p:nvGrpSpPr>
          <p:grpSpPr>
            <a:xfrm>
              <a:off x="5865480" y="1962000"/>
              <a:ext cx="217080" cy="216000"/>
              <a:chOff x="5865480" y="1962000"/>
              <a:chExt cx="217080" cy="216000"/>
            </a:xfrm>
          </p:grpSpPr>
          <p:sp>
            <p:nvSpPr>
              <p:cNvPr id="424" name="door"/>
              <p:cNvSpPr/>
              <p:nvPr/>
            </p:nvSpPr>
            <p:spPr>
              <a:xfrm flipH="1" rot="5400000">
                <a:off x="5868720" y="1964520"/>
                <a:ext cx="209520" cy="217080"/>
              </a:xfrm>
              <a:custGeom>
                <a:avLst/>
                <a:gdLst>
                  <a:gd name="textAreaLeft" fmla="*/ 24840 w 209520"/>
                  <a:gd name="textAreaRight" fmla="*/ 131040 w 209520"/>
                  <a:gd name="textAreaTop" fmla="*/ 111960 h 217080"/>
                  <a:gd name="textAreaBottom" fmla="*/ 203400 h 217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21600"/>
                    </a:moveTo>
                    <a:lnTo>
                      <a:pt x="6007" y="127"/>
                    </a:lnTo>
                    <a:lnTo>
                      <a:pt x="4665" y="2541"/>
                    </a:lnTo>
                    <a:lnTo>
                      <a:pt x="3579" y="5209"/>
                    </a:lnTo>
                    <a:lnTo>
                      <a:pt x="2492" y="8259"/>
                    </a:lnTo>
                    <a:lnTo>
                      <a:pt x="1598" y="11308"/>
                    </a:lnTo>
                    <a:lnTo>
                      <a:pt x="959" y="14739"/>
                    </a:lnTo>
                    <a:lnTo>
                      <a:pt x="383" y="18169"/>
                    </a:lnTo>
                    <a:lnTo>
                      <a:pt x="0" y="2160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 rot="10800000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Line 160"/>
              <p:cNvSpPr/>
              <p:nvPr/>
            </p:nvSpPr>
            <p:spPr>
              <a:xfrm flipV="1">
                <a:off x="5865480" y="1962000"/>
                <a:ext cx="0" cy="2160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6" name="Text Box 161"/>
            <p:cNvSpPr/>
            <p:nvPr/>
          </p:nvSpPr>
          <p:spPr>
            <a:xfrm>
              <a:off x="4278960" y="3479040"/>
              <a:ext cx="943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Living Are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Text Box 162"/>
            <p:cNvSpPr/>
            <p:nvPr/>
          </p:nvSpPr>
          <p:spPr>
            <a:xfrm>
              <a:off x="4061520" y="2323440"/>
              <a:ext cx="1161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Dining Are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Text Box 163"/>
            <p:cNvSpPr/>
            <p:nvPr/>
          </p:nvSpPr>
          <p:spPr>
            <a:xfrm>
              <a:off x="4206600" y="1528560"/>
              <a:ext cx="1160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Kitchen Are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Text Box 164"/>
            <p:cNvSpPr/>
            <p:nvPr/>
          </p:nvSpPr>
          <p:spPr>
            <a:xfrm>
              <a:off x="2539080" y="950760"/>
              <a:ext cx="1159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Dec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Text Box 165"/>
            <p:cNvSpPr/>
            <p:nvPr/>
          </p:nvSpPr>
          <p:spPr>
            <a:xfrm>
              <a:off x="1811880" y="3551400"/>
              <a:ext cx="116064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Master Bedroo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1" name="Group 166"/>
            <p:cNvGrpSpPr/>
            <p:nvPr/>
          </p:nvGrpSpPr>
          <p:grpSpPr>
            <a:xfrm>
              <a:off x="2246760" y="2395440"/>
              <a:ext cx="217800" cy="144360"/>
              <a:chOff x="2246760" y="2395440"/>
              <a:chExt cx="217800" cy="144360"/>
            </a:xfrm>
          </p:grpSpPr>
          <p:sp>
            <p:nvSpPr>
              <p:cNvPr id="432" name="door"/>
              <p:cNvSpPr/>
              <p:nvPr/>
            </p:nvSpPr>
            <p:spPr>
              <a:xfrm>
                <a:off x="2246760" y="2395440"/>
                <a:ext cx="210600" cy="144360"/>
              </a:xfrm>
              <a:custGeom>
                <a:avLst/>
                <a:gdLst>
                  <a:gd name="textAreaLeft" fmla="*/ 24840 w 210600"/>
                  <a:gd name="textAreaRight" fmla="*/ 131400 w 210600"/>
                  <a:gd name="textAreaTop" fmla="*/ 74520 h 144360"/>
                  <a:gd name="textAreaBottom" fmla="*/ 135360 h 144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21600"/>
                    </a:moveTo>
                    <a:lnTo>
                      <a:pt x="6007" y="127"/>
                    </a:lnTo>
                    <a:lnTo>
                      <a:pt x="4665" y="2541"/>
                    </a:lnTo>
                    <a:lnTo>
                      <a:pt x="3579" y="5209"/>
                    </a:lnTo>
                    <a:lnTo>
                      <a:pt x="2492" y="8259"/>
                    </a:lnTo>
                    <a:lnTo>
                      <a:pt x="1598" y="11308"/>
                    </a:lnTo>
                    <a:lnTo>
                      <a:pt x="959" y="14739"/>
                    </a:lnTo>
                    <a:lnTo>
                      <a:pt x="383" y="18169"/>
                    </a:lnTo>
                    <a:lnTo>
                      <a:pt x="0" y="2160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Line 168"/>
              <p:cNvSpPr/>
              <p:nvPr/>
            </p:nvSpPr>
            <p:spPr>
              <a:xfrm>
                <a:off x="2247480" y="2539800"/>
                <a:ext cx="2170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4" name="Text Box 169"/>
            <p:cNvSpPr/>
            <p:nvPr/>
          </p:nvSpPr>
          <p:spPr>
            <a:xfrm>
              <a:off x="1521360" y="2034360"/>
              <a:ext cx="1161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Master Bath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Text Box 170"/>
            <p:cNvSpPr/>
            <p:nvPr/>
          </p:nvSpPr>
          <p:spPr>
            <a:xfrm>
              <a:off x="6674040" y="2828880"/>
              <a:ext cx="943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Garag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6" name="Group 171"/>
            <p:cNvGrpSpPr/>
            <p:nvPr/>
          </p:nvGrpSpPr>
          <p:grpSpPr>
            <a:xfrm>
              <a:off x="2588760" y="2765880"/>
              <a:ext cx="674280" cy="207000"/>
              <a:chOff x="2588760" y="2765880"/>
              <a:chExt cx="674280" cy="207000"/>
            </a:xfrm>
          </p:grpSpPr>
          <p:sp>
            <p:nvSpPr>
              <p:cNvPr id="437" name="Rectangle 172"/>
              <p:cNvSpPr/>
              <p:nvPr/>
            </p:nvSpPr>
            <p:spPr>
              <a:xfrm flipV="1" rot="5400000">
                <a:off x="2822760" y="2532600"/>
                <a:ext cx="205920" cy="674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Line 173"/>
              <p:cNvSpPr/>
              <p:nvPr/>
            </p:nvSpPr>
            <p:spPr>
              <a:xfrm>
                <a:off x="2974320" y="2766960"/>
                <a:ext cx="0" cy="20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Line 174"/>
              <p:cNvSpPr/>
              <p:nvPr/>
            </p:nvSpPr>
            <p:spPr>
              <a:xfrm>
                <a:off x="2877480" y="2766960"/>
                <a:ext cx="0" cy="20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Line 175"/>
              <p:cNvSpPr/>
              <p:nvPr/>
            </p:nvSpPr>
            <p:spPr>
              <a:xfrm>
                <a:off x="2780640" y="2766960"/>
                <a:ext cx="0" cy="20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Line 176"/>
              <p:cNvSpPr/>
              <p:nvPr/>
            </p:nvSpPr>
            <p:spPr>
              <a:xfrm>
                <a:off x="2685240" y="2766960"/>
                <a:ext cx="0" cy="20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Line 177"/>
              <p:cNvSpPr/>
              <p:nvPr/>
            </p:nvSpPr>
            <p:spPr>
              <a:xfrm>
                <a:off x="3070800" y="2765880"/>
                <a:ext cx="0" cy="20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3" name="Text Box 178"/>
            <p:cNvSpPr/>
            <p:nvPr/>
          </p:nvSpPr>
          <p:spPr>
            <a:xfrm>
              <a:off x="3118320" y="2323440"/>
              <a:ext cx="942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Basement Stair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Text Box 179"/>
            <p:cNvSpPr/>
            <p:nvPr/>
          </p:nvSpPr>
          <p:spPr>
            <a:xfrm>
              <a:off x="3408120" y="1745280"/>
              <a:ext cx="9432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French Door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180"/>
            <p:cNvSpPr/>
            <p:nvPr/>
          </p:nvSpPr>
          <p:spPr>
            <a:xfrm flipV="1">
              <a:off x="3480840" y="1600920"/>
              <a:ext cx="0" cy="28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181"/>
            <p:cNvSpPr/>
            <p:nvPr/>
          </p:nvSpPr>
          <p:spPr>
            <a:xfrm flipV="1">
              <a:off x="3989160" y="1456560"/>
              <a:ext cx="0" cy="28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182"/>
            <p:cNvSpPr/>
            <p:nvPr/>
          </p:nvSpPr>
          <p:spPr>
            <a:xfrm>
              <a:off x="3107520" y="1683720"/>
              <a:ext cx="0" cy="108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Text Box 183"/>
            <p:cNvSpPr/>
            <p:nvPr/>
          </p:nvSpPr>
          <p:spPr>
            <a:xfrm>
              <a:off x="2539080" y="2251080"/>
              <a:ext cx="578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Pantr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9" name="Group 184"/>
            <p:cNvGrpSpPr/>
            <p:nvPr/>
          </p:nvGrpSpPr>
          <p:grpSpPr>
            <a:xfrm>
              <a:off x="3263040" y="2828880"/>
              <a:ext cx="110160" cy="123480"/>
              <a:chOff x="3263040" y="2828880"/>
              <a:chExt cx="110160" cy="123480"/>
            </a:xfrm>
          </p:grpSpPr>
          <p:sp>
            <p:nvSpPr>
              <p:cNvPr id="450" name="door"/>
              <p:cNvSpPr/>
              <p:nvPr/>
            </p:nvSpPr>
            <p:spPr>
              <a:xfrm flipH="1" flipV="1" rot="16200000">
                <a:off x="3258360" y="2833560"/>
                <a:ext cx="119520" cy="110160"/>
              </a:xfrm>
              <a:custGeom>
                <a:avLst/>
                <a:gdLst>
                  <a:gd name="textAreaLeft" fmla="*/ 14040 w 119520"/>
                  <a:gd name="textAreaRight" fmla="*/ 74520 w 119520"/>
                  <a:gd name="textAreaTop" fmla="*/ 57240 h 110160"/>
                  <a:gd name="textAreaBottom" fmla="*/ 103680 h 110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21600"/>
                    </a:moveTo>
                    <a:lnTo>
                      <a:pt x="6007" y="127"/>
                    </a:lnTo>
                    <a:lnTo>
                      <a:pt x="4665" y="2541"/>
                    </a:lnTo>
                    <a:lnTo>
                      <a:pt x="3579" y="5209"/>
                    </a:lnTo>
                    <a:lnTo>
                      <a:pt x="2492" y="8259"/>
                    </a:lnTo>
                    <a:lnTo>
                      <a:pt x="1598" y="11308"/>
                    </a:lnTo>
                    <a:lnTo>
                      <a:pt x="959" y="14739"/>
                    </a:lnTo>
                    <a:lnTo>
                      <a:pt x="383" y="18169"/>
                    </a:lnTo>
                    <a:lnTo>
                      <a:pt x="0" y="2160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 rot="10800000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Line 186"/>
              <p:cNvSpPr/>
              <p:nvPr/>
            </p:nvSpPr>
            <p:spPr>
              <a:xfrm>
                <a:off x="3263040" y="2828880"/>
                <a:ext cx="0" cy="1234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2" name="Line 187"/>
            <p:cNvSpPr/>
            <p:nvPr/>
          </p:nvSpPr>
          <p:spPr>
            <a:xfrm flipV="1">
              <a:off x="8560800" y="444960"/>
              <a:ext cx="0" cy="72216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Line 188"/>
            <p:cNvSpPr/>
            <p:nvPr/>
          </p:nvSpPr>
          <p:spPr>
            <a:xfrm>
              <a:off x="8415720" y="806400"/>
              <a:ext cx="29016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Text Box 189"/>
            <p:cNvSpPr/>
            <p:nvPr/>
          </p:nvSpPr>
          <p:spPr>
            <a:xfrm>
              <a:off x="8343360" y="228600"/>
              <a:ext cx="43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Text Box 190"/>
            <p:cNvSpPr/>
            <p:nvPr/>
          </p:nvSpPr>
          <p:spPr>
            <a:xfrm>
              <a:off x="1510920" y="4042080"/>
              <a:ext cx="6634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Close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6" name="Group 191"/>
            <p:cNvGrpSpPr/>
            <p:nvPr/>
          </p:nvGrpSpPr>
          <p:grpSpPr>
            <a:xfrm>
              <a:off x="1521360" y="3893040"/>
              <a:ext cx="642240" cy="359280"/>
              <a:chOff x="1521360" y="3893040"/>
              <a:chExt cx="642240" cy="359280"/>
            </a:xfrm>
          </p:grpSpPr>
          <p:sp>
            <p:nvSpPr>
              <p:cNvPr id="457" name="Rectangle 192"/>
              <p:cNvSpPr/>
              <p:nvPr/>
            </p:nvSpPr>
            <p:spPr>
              <a:xfrm rot="16200000">
                <a:off x="1735560" y="3824280"/>
                <a:ext cx="213840" cy="642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58" name="Group 193"/>
              <p:cNvGrpSpPr/>
              <p:nvPr/>
            </p:nvGrpSpPr>
            <p:grpSpPr>
              <a:xfrm>
                <a:off x="1572840" y="3893040"/>
                <a:ext cx="217800" cy="144000"/>
                <a:chOff x="1572840" y="3893040"/>
                <a:chExt cx="217800" cy="144000"/>
              </a:xfrm>
            </p:grpSpPr>
            <p:sp>
              <p:nvSpPr>
                <p:cNvPr id="459" name="door"/>
                <p:cNvSpPr/>
                <p:nvPr/>
              </p:nvSpPr>
              <p:spPr>
                <a:xfrm flipH="1">
                  <a:off x="1579680" y="3893040"/>
                  <a:ext cx="210600" cy="144000"/>
                </a:xfrm>
                <a:custGeom>
                  <a:avLst/>
                  <a:gdLst>
                    <a:gd name="textAreaLeft" fmla="*/ 24480 w 210600"/>
                    <a:gd name="textAreaRight" fmla="*/ 131040 w 210600"/>
                    <a:gd name="textAreaTop" fmla="*/ 74160 h 144000"/>
                    <a:gd name="textAreaBottom" fmla="*/ 135000 h 144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21600"/>
                      </a:moveTo>
                      <a:lnTo>
                        <a:pt x="6007" y="127"/>
                      </a:lnTo>
                      <a:lnTo>
                        <a:pt x="4665" y="2541"/>
                      </a:lnTo>
                      <a:lnTo>
                        <a:pt x="3579" y="5209"/>
                      </a:lnTo>
                      <a:lnTo>
                        <a:pt x="2492" y="8259"/>
                      </a:lnTo>
                      <a:lnTo>
                        <a:pt x="1598" y="11308"/>
                      </a:lnTo>
                      <a:lnTo>
                        <a:pt x="959" y="14739"/>
                      </a:lnTo>
                      <a:lnTo>
                        <a:pt x="383" y="18169"/>
                      </a:lnTo>
                      <a:lnTo>
                        <a:pt x="0" y="2160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0" name="Line 195"/>
                <p:cNvSpPr/>
                <p:nvPr/>
              </p:nvSpPr>
              <p:spPr>
                <a:xfrm flipH="1">
                  <a:off x="1572840" y="4037040"/>
                  <a:ext cx="217080" cy="0"/>
                </a:xfrm>
                <a:prstGeom prst="line">
                  <a:avLst/>
                </a:prstGeom>
                <a:ln w="34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61" name="Text Box 196"/>
            <p:cNvSpPr/>
            <p:nvPr/>
          </p:nvSpPr>
          <p:spPr>
            <a:xfrm>
              <a:off x="4153680" y="5617800"/>
              <a:ext cx="680760" cy="30708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Side 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Text Box 197"/>
            <p:cNvSpPr/>
            <p:nvPr/>
          </p:nvSpPr>
          <p:spPr>
            <a:xfrm>
              <a:off x="650880" y="2756880"/>
              <a:ext cx="677160" cy="30708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Side 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Text Box 198"/>
            <p:cNvSpPr/>
            <p:nvPr/>
          </p:nvSpPr>
          <p:spPr>
            <a:xfrm>
              <a:off x="8290440" y="2756880"/>
              <a:ext cx="680760" cy="30708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Side 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Text Box 199"/>
            <p:cNvSpPr/>
            <p:nvPr/>
          </p:nvSpPr>
          <p:spPr>
            <a:xfrm>
              <a:off x="4226400" y="344520"/>
              <a:ext cx="680760" cy="30708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Side 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Slide Number Placeholder 1"/>
          <p:cNvSpPr/>
          <p:nvPr/>
        </p:nvSpPr>
        <p:spPr>
          <a:xfrm>
            <a:off x="7002360" y="64771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lide 5-</a:t>
            </a:r>
            <a:fld id="{E1B4478B-FFCB-4D3E-83FF-87E4837CEF7D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133"/>
          <p:cNvSpPr/>
          <p:nvPr/>
        </p:nvSpPr>
        <p:spPr>
          <a:xfrm>
            <a:off x="0" y="0"/>
            <a:ext cx="9144000" cy="6324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7" name="Group 134"/>
          <p:cNvGrpSpPr/>
          <p:nvPr/>
        </p:nvGrpSpPr>
        <p:grpSpPr>
          <a:xfrm>
            <a:off x="248400" y="76320"/>
            <a:ext cx="8605440" cy="5943960"/>
            <a:chOff x="248400" y="76320"/>
            <a:chExt cx="8605440" cy="5943960"/>
          </a:xfrm>
        </p:grpSpPr>
        <p:sp>
          <p:nvSpPr>
            <p:cNvPr id="468" name="Line 2"/>
            <p:cNvSpPr/>
            <p:nvPr/>
          </p:nvSpPr>
          <p:spPr>
            <a:xfrm>
              <a:off x="1143000" y="4270320"/>
              <a:ext cx="1981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3"/>
            <p:cNvSpPr/>
            <p:nvPr/>
          </p:nvSpPr>
          <p:spPr>
            <a:xfrm>
              <a:off x="6553080" y="4295520"/>
              <a:ext cx="1524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4"/>
            <p:cNvSpPr/>
            <p:nvPr/>
          </p:nvSpPr>
          <p:spPr>
            <a:xfrm>
              <a:off x="3124080" y="4270320"/>
              <a:ext cx="693720" cy="116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5"/>
            <p:cNvSpPr/>
            <p:nvPr/>
          </p:nvSpPr>
          <p:spPr>
            <a:xfrm flipH="1">
              <a:off x="3817800" y="4295520"/>
              <a:ext cx="2773440" cy="1168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6"/>
            <p:cNvSpPr/>
            <p:nvPr/>
          </p:nvSpPr>
          <p:spPr>
            <a:xfrm>
              <a:off x="1143000" y="1806480"/>
              <a:ext cx="1089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7"/>
            <p:cNvSpPr/>
            <p:nvPr/>
          </p:nvSpPr>
          <p:spPr>
            <a:xfrm flipH="1">
              <a:off x="2232000" y="637920"/>
              <a:ext cx="2774880" cy="1168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"/>
            <p:cNvSpPr/>
            <p:nvPr/>
          </p:nvSpPr>
          <p:spPr>
            <a:xfrm>
              <a:off x="5006880" y="637920"/>
              <a:ext cx="692280" cy="1168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Line 9"/>
            <p:cNvSpPr/>
            <p:nvPr/>
          </p:nvSpPr>
          <p:spPr>
            <a:xfrm flipV="1">
              <a:off x="8077320" y="1806120"/>
              <a:ext cx="0" cy="246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Line 10"/>
            <p:cNvSpPr/>
            <p:nvPr/>
          </p:nvSpPr>
          <p:spPr>
            <a:xfrm flipV="1">
              <a:off x="1143000" y="1806120"/>
              <a:ext cx="0" cy="246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11"/>
            <p:cNvSpPr/>
            <p:nvPr/>
          </p:nvSpPr>
          <p:spPr>
            <a:xfrm>
              <a:off x="5699160" y="1806480"/>
              <a:ext cx="2378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8" name="Group 12"/>
            <p:cNvGrpSpPr/>
            <p:nvPr/>
          </p:nvGrpSpPr>
          <p:grpSpPr>
            <a:xfrm>
              <a:off x="3541320" y="5028840"/>
              <a:ext cx="209520" cy="209160"/>
              <a:chOff x="3541320" y="5028840"/>
              <a:chExt cx="209520" cy="209160"/>
            </a:xfrm>
          </p:grpSpPr>
          <p:grpSp>
            <p:nvGrpSpPr>
              <p:cNvPr id="479" name="Group 13"/>
              <p:cNvGrpSpPr/>
              <p:nvPr/>
            </p:nvGrpSpPr>
            <p:grpSpPr>
              <a:xfrm>
                <a:off x="3541320" y="5028840"/>
                <a:ext cx="169560" cy="144720"/>
                <a:chOff x="3541320" y="5028840"/>
                <a:chExt cx="169560" cy="144720"/>
              </a:xfrm>
            </p:grpSpPr>
            <p:grpSp>
              <p:nvGrpSpPr>
                <p:cNvPr id="480" name="Group 14"/>
                <p:cNvGrpSpPr/>
                <p:nvPr/>
              </p:nvGrpSpPr>
              <p:grpSpPr>
                <a:xfrm>
                  <a:off x="3541320" y="5028840"/>
                  <a:ext cx="169560" cy="144720"/>
                  <a:chOff x="3541320" y="5028840"/>
                  <a:chExt cx="169560" cy="144720"/>
                </a:xfrm>
              </p:grpSpPr>
              <p:sp>
                <p:nvSpPr>
                  <p:cNvPr id="481" name="Line 15"/>
                  <p:cNvSpPr/>
                  <p:nvPr/>
                </p:nvSpPr>
                <p:spPr>
                  <a:xfrm flipV="1">
                    <a:off x="3581280" y="5093280"/>
                    <a:ext cx="129600" cy="80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3480" bIns="33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2" name="Line 16"/>
                  <p:cNvSpPr/>
                  <p:nvPr/>
                </p:nvSpPr>
                <p:spPr>
                  <a:xfrm flipV="1">
                    <a:off x="3541320" y="5028840"/>
                    <a:ext cx="129600" cy="799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3120" bIns="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83" name="Line 17"/>
                <p:cNvSpPr/>
                <p:nvPr/>
              </p:nvSpPr>
              <p:spPr>
                <a:xfrm>
                  <a:off x="3605760" y="5069520"/>
                  <a:ext cx="39960" cy="6444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4" name="Group 18"/>
              <p:cNvGrpSpPr/>
              <p:nvPr/>
            </p:nvGrpSpPr>
            <p:grpSpPr>
              <a:xfrm>
                <a:off x="3581640" y="5093640"/>
                <a:ext cx="169200" cy="144360"/>
                <a:chOff x="3581640" y="5093640"/>
                <a:chExt cx="169200" cy="144360"/>
              </a:xfrm>
            </p:grpSpPr>
            <p:grpSp>
              <p:nvGrpSpPr>
                <p:cNvPr id="485" name="Group 19"/>
                <p:cNvGrpSpPr/>
                <p:nvPr/>
              </p:nvGrpSpPr>
              <p:grpSpPr>
                <a:xfrm>
                  <a:off x="3581640" y="5093640"/>
                  <a:ext cx="169200" cy="144360"/>
                  <a:chOff x="3581640" y="5093640"/>
                  <a:chExt cx="169200" cy="144360"/>
                </a:xfrm>
              </p:grpSpPr>
              <p:sp>
                <p:nvSpPr>
                  <p:cNvPr id="486" name="Line 20"/>
                  <p:cNvSpPr/>
                  <p:nvPr/>
                </p:nvSpPr>
                <p:spPr>
                  <a:xfrm flipV="1">
                    <a:off x="3621240" y="5157720"/>
                    <a:ext cx="129600" cy="80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3480" bIns="33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7" name="Line 21"/>
                  <p:cNvSpPr/>
                  <p:nvPr/>
                </p:nvSpPr>
                <p:spPr>
                  <a:xfrm flipV="1">
                    <a:off x="3581640" y="5093640"/>
                    <a:ext cx="129240" cy="80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3480" bIns="33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88" name="Line 22"/>
                <p:cNvSpPr/>
                <p:nvPr/>
              </p:nvSpPr>
              <p:spPr>
                <a:xfrm>
                  <a:off x="3645720" y="5133960"/>
                  <a:ext cx="39960" cy="6444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89" name="Group 23"/>
            <p:cNvGrpSpPr/>
            <p:nvPr/>
          </p:nvGrpSpPr>
          <p:grpSpPr>
            <a:xfrm>
              <a:off x="1067400" y="2390760"/>
              <a:ext cx="152280" cy="75600"/>
              <a:chOff x="1067400" y="2390760"/>
              <a:chExt cx="152280" cy="75600"/>
            </a:xfrm>
          </p:grpSpPr>
          <p:grpSp>
            <p:nvGrpSpPr>
              <p:cNvPr id="490" name="Group 24"/>
              <p:cNvGrpSpPr/>
              <p:nvPr/>
            </p:nvGrpSpPr>
            <p:grpSpPr>
              <a:xfrm>
                <a:off x="1067400" y="2390760"/>
                <a:ext cx="152280" cy="75600"/>
                <a:chOff x="1067400" y="2390760"/>
                <a:chExt cx="152280" cy="75600"/>
              </a:xfrm>
            </p:grpSpPr>
            <p:sp>
              <p:nvSpPr>
                <p:cNvPr id="491" name="Line 25"/>
                <p:cNvSpPr/>
                <p:nvPr/>
              </p:nvSpPr>
              <p:spPr>
                <a:xfrm>
                  <a:off x="1067400" y="2466360"/>
                  <a:ext cx="152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2" name="Line 26"/>
                <p:cNvSpPr/>
                <p:nvPr/>
              </p:nvSpPr>
              <p:spPr>
                <a:xfrm>
                  <a:off x="1067400" y="2390760"/>
                  <a:ext cx="152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93" name="Line 27"/>
              <p:cNvSpPr/>
              <p:nvPr/>
            </p:nvSpPr>
            <p:spPr>
              <a:xfrm>
                <a:off x="1143000" y="2390760"/>
                <a:ext cx="0" cy="756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4" name="Group 28"/>
            <p:cNvGrpSpPr/>
            <p:nvPr/>
          </p:nvGrpSpPr>
          <p:grpSpPr>
            <a:xfrm>
              <a:off x="1067400" y="2314080"/>
              <a:ext cx="152280" cy="76320"/>
              <a:chOff x="1067400" y="2314080"/>
              <a:chExt cx="152280" cy="76320"/>
            </a:xfrm>
          </p:grpSpPr>
          <p:grpSp>
            <p:nvGrpSpPr>
              <p:cNvPr id="495" name="Group 29"/>
              <p:cNvGrpSpPr/>
              <p:nvPr/>
            </p:nvGrpSpPr>
            <p:grpSpPr>
              <a:xfrm>
                <a:off x="1067400" y="2314080"/>
                <a:ext cx="152280" cy="75960"/>
                <a:chOff x="1067400" y="2314080"/>
                <a:chExt cx="152280" cy="75960"/>
              </a:xfrm>
            </p:grpSpPr>
            <p:sp>
              <p:nvSpPr>
                <p:cNvPr id="496" name="Line 30"/>
                <p:cNvSpPr/>
                <p:nvPr/>
              </p:nvSpPr>
              <p:spPr>
                <a:xfrm>
                  <a:off x="1067400" y="2390040"/>
                  <a:ext cx="152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7" name="Line 31"/>
                <p:cNvSpPr/>
                <p:nvPr/>
              </p:nvSpPr>
              <p:spPr>
                <a:xfrm>
                  <a:off x="1067400" y="2314080"/>
                  <a:ext cx="152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98" name="Line 32"/>
              <p:cNvSpPr/>
              <p:nvPr/>
            </p:nvSpPr>
            <p:spPr>
              <a:xfrm>
                <a:off x="1143000" y="2314440"/>
                <a:ext cx="0" cy="7596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9" name="Group 33"/>
            <p:cNvGrpSpPr/>
            <p:nvPr/>
          </p:nvGrpSpPr>
          <p:grpSpPr>
            <a:xfrm>
              <a:off x="3400200" y="4799880"/>
              <a:ext cx="209520" cy="209520"/>
              <a:chOff x="3400200" y="4799880"/>
              <a:chExt cx="209520" cy="209520"/>
            </a:xfrm>
          </p:grpSpPr>
          <p:grpSp>
            <p:nvGrpSpPr>
              <p:cNvPr id="500" name="Group 34"/>
              <p:cNvGrpSpPr/>
              <p:nvPr/>
            </p:nvGrpSpPr>
            <p:grpSpPr>
              <a:xfrm>
                <a:off x="3400200" y="4799880"/>
                <a:ext cx="169560" cy="144720"/>
                <a:chOff x="3400200" y="4799880"/>
                <a:chExt cx="169560" cy="144720"/>
              </a:xfrm>
            </p:grpSpPr>
            <p:grpSp>
              <p:nvGrpSpPr>
                <p:cNvPr id="501" name="Group 35"/>
                <p:cNvGrpSpPr/>
                <p:nvPr/>
              </p:nvGrpSpPr>
              <p:grpSpPr>
                <a:xfrm>
                  <a:off x="3400200" y="4799880"/>
                  <a:ext cx="169560" cy="144720"/>
                  <a:chOff x="3400200" y="4799880"/>
                  <a:chExt cx="169560" cy="144720"/>
                </a:xfrm>
              </p:grpSpPr>
              <p:sp>
                <p:nvSpPr>
                  <p:cNvPr id="502" name="Line 36"/>
                  <p:cNvSpPr/>
                  <p:nvPr/>
                </p:nvSpPr>
                <p:spPr>
                  <a:xfrm flipV="1">
                    <a:off x="3440160" y="4864680"/>
                    <a:ext cx="129600" cy="799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3120" bIns="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3" name="Line 37"/>
                  <p:cNvSpPr/>
                  <p:nvPr/>
                </p:nvSpPr>
                <p:spPr>
                  <a:xfrm flipV="1">
                    <a:off x="3400200" y="4799880"/>
                    <a:ext cx="129600" cy="80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3480" bIns="33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04" name="Line 38"/>
                <p:cNvSpPr/>
                <p:nvPr/>
              </p:nvSpPr>
              <p:spPr>
                <a:xfrm>
                  <a:off x="3464640" y="4840560"/>
                  <a:ext cx="39960" cy="6480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5" name="Group 39"/>
              <p:cNvGrpSpPr/>
              <p:nvPr/>
            </p:nvGrpSpPr>
            <p:grpSpPr>
              <a:xfrm>
                <a:off x="3440520" y="4864680"/>
                <a:ext cx="169200" cy="144720"/>
                <a:chOff x="3440520" y="4864680"/>
                <a:chExt cx="169200" cy="144720"/>
              </a:xfrm>
            </p:grpSpPr>
            <p:grpSp>
              <p:nvGrpSpPr>
                <p:cNvPr id="506" name="Group 40"/>
                <p:cNvGrpSpPr/>
                <p:nvPr/>
              </p:nvGrpSpPr>
              <p:grpSpPr>
                <a:xfrm>
                  <a:off x="3440520" y="4864680"/>
                  <a:ext cx="169200" cy="144720"/>
                  <a:chOff x="3440520" y="4864680"/>
                  <a:chExt cx="169200" cy="144720"/>
                </a:xfrm>
              </p:grpSpPr>
              <p:sp>
                <p:nvSpPr>
                  <p:cNvPr id="507" name="Line 41"/>
                  <p:cNvSpPr/>
                  <p:nvPr/>
                </p:nvSpPr>
                <p:spPr>
                  <a:xfrm flipV="1">
                    <a:off x="3480120" y="4929120"/>
                    <a:ext cx="129600" cy="80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3480" bIns="33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8" name="Line 42"/>
                  <p:cNvSpPr/>
                  <p:nvPr/>
                </p:nvSpPr>
                <p:spPr>
                  <a:xfrm flipV="1">
                    <a:off x="3440520" y="4864680"/>
                    <a:ext cx="129240" cy="80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3480" bIns="33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09" name="Line 43"/>
                <p:cNvSpPr/>
                <p:nvPr/>
              </p:nvSpPr>
              <p:spPr>
                <a:xfrm>
                  <a:off x="3504600" y="4905360"/>
                  <a:ext cx="39960" cy="6408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10" name="Group 44"/>
            <p:cNvGrpSpPr/>
            <p:nvPr/>
          </p:nvGrpSpPr>
          <p:grpSpPr>
            <a:xfrm>
              <a:off x="2820240" y="1284480"/>
              <a:ext cx="477000" cy="317520"/>
              <a:chOff x="2820240" y="1284480"/>
              <a:chExt cx="477000" cy="317520"/>
            </a:xfrm>
          </p:grpSpPr>
          <p:grpSp>
            <p:nvGrpSpPr>
              <p:cNvPr id="511" name="Group 45"/>
              <p:cNvGrpSpPr/>
              <p:nvPr/>
            </p:nvGrpSpPr>
            <p:grpSpPr>
              <a:xfrm>
                <a:off x="2820240" y="1371960"/>
                <a:ext cx="270360" cy="230040"/>
                <a:chOff x="2820240" y="1371960"/>
                <a:chExt cx="270360" cy="230040"/>
              </a:xfrm>
            </p:grpSpPr>
            <p:sp>
              <p:nvSpPr>
                <p:cNvPr id="512" name="Line 46"/>
                <p:cNvSpPr/>
                <p:nvPr/>
              </p:nvSpPr>
              <p:spPr>
                <a:xfrm flipH="1" flipV="1">
                  <a:off x="3030480" y="1371960"/>
                  <a:ext cx="60120" cy="139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3" name="Line 47"/>
                <p:cNvSpPr/>
                <p:nvPr/>
              </p:nvSpPr>
              <p:spPr>
                <a:xfrm flipH="1" flipV="1">
                  <a:off x="2820240" y="1462320"/>
                  <a:ext cx="60120" cy="139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14" name="Line 48"/>
              <p:cNvSpPr/>
              <p:nvPr/>
            </p:nvSpPr>
            <p:spPr>
              <a:xfrm flipV="1">
                <a:off x="2850840" y="1441800"/>
                <a:ext cx="209880" cy="9036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15" name="Group 49"/>
              <p:cNvGrpSpPr/>
              <p:nvPr/>
            </p:nvGrpSpPr>
            <p:grpSpPr>
              <a:xfrm>
                <a:off x="3026880" y="1284480"/>
                <a:ext cx="270360" cy="230400"/>
                <a:chOff x="3026880" y="1284480"/>
                <a:chExt cx="270360" cy="230400"/>
              </a:xfrm>
            </p:grpSpPr>
            <p:grpSp>
              <p:nvGrpSpPr>
                <p:cNvPr id="516" name="Group 50"/>
                <p:cNvGrpSpPr/>
                <p:nvPr/>
              </p:nvGrpSpPr>
              <p:grpSpPr>
                <a:xfrm>
                  <a:off x="3026880" y="1284480"/>
                  <a:ext cx="270360" cy="230400"/>
                  <a:chOff x="3026880" y="1284480"/>
                  <a:chExt cx="270360" cy="230400"/>
                </a:xfrm>
              </p:grpSpPr>
              <p:sp>
                <p:nvSpPr>
                  <p:cNvPr id="517" name="Line 51"/>
                  <p:cNvSpPr/>
                  <p:nvPr/>
                </p:nvSpPr>
                <p:spPr>
                  <a:xfrm flipH="1" flipV="1">
                    <a:off x="3236760" y="1284480"/>
                    <a:ext cx="60480" cy="1400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8" name="Line 52"/>
                  <p:cNvSpPr/>
                  <p:nvPr/>
                </p:nvSpPr>
                <p:spPr>
                  <a:xfrm flipH="1" flipV="1">
                    <a:off x="3026880" y="1374840"/>
                    <a:ext cx="60120" cy="1400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19" name="Line 53"/>
                <p:cNvSpPr/>
                <p:nvPr/>
              </p:nvSpPr>
              <p:spPr>
                <a:xfrm flipV="1">
                  <a:off x="3057480" y="1354680"/>
                  <a:ext cx="210240" cy="9036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20" name="Group 54"/>
            <p:cNvGrpSpPr/>
            <p:nvPr/>
          </p:nvGrpSpPr>
          <p:grpSpPr>
            <a:xfrm>
              <a:off x="3408120" y="1044720"/>
              <a:ext cx="476280" cy="317160"/>
              <a:chOff x="3408120" y="1044720"/>
              <a:chExt cx="476280" cy="317160"/>
            </a:xfrm>
          </p:grpSpPr>
          <p:grpSp>
            <p:nvGrpSpPr>
              <p:cNvPr id="521" name="Group 55"/>
              <p:cNvGrpSpPr/>
              <p:nvPr/>
            </p:nvGrpSpPr>
            <p:grpSpPr>
              <a:xfrm>
                <a:off x="3408120" y="1132200"/>
                <a:ext cx="270000" cy="229680"/>
                <a:chOff x="3408120" y="1132200"/>
                <a:chExt cx="270000" cy="229680"/>
              </a:xfrm>
            </p:grpSpPr>
            <p:sp>
              <p:nvSpPr>
                <p:cNvPr id="522" name="Line 56"/>
                <p:cNvSpPr/>
                <p:nvPr/>
              </p:nvSpPr>
              <p:spPr>
                <a:xfrm flipH="1" flipV="1">
                  <a:off x="3618000" y="1132200"/>
                  <a:ext cx="60120" cy="139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3" name="Line 57"/>
                <p:cNvSpPr/>
                <p:nvPr/>
              </p:nvSpPr>
              <p:spPr>
                <a:xfrm flipH="1" flipV="1">
                  <a:off x="3408120" y="1222200"/>
                  <a:ext cx="60120" cy="139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24" name="Line 58"/>
              <p:cNvSpPr/>
              <p:nvPr/>
            </p:nvSpPr>
            <p:spPr>
              <a:xfrm flipV="1">
                <a:off x="3438360" y="1202400"/>
                <a:ext cx="209520" cy="900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25" name="Group 59"/>
              <p:cNvGrpSpPr/>
              <p:nvPr/>
            </p:nvGrpSpPr>
            <p:grpSpPr>
              <a:xfrm>
                <a:off x="3614400" y="1044720"/>
                <a:ext cx="270000" cy="230040"/>
                <a:chOff x="3614400" y="1044720"/>
                <a:chExt cx="270000" cy="230040"/>
              </a:xfrm>
            </p:grpSpPr>
            <p:grpSp>
              <p:nvGrpSpPr>
                <p:cNvPr id="526" name="Group 60"/>
                <p:cNvGrpSpPr/>
                <p:nvPr/>
              </p:nvGrpSpPr>
              <p:grpSpPr>
                <a:xfrm>
                  <a:off x="3614400" y="1044720"/>
                  <a:ext cx="270000" cy="230040"/>
                  <a:chOff x="3614400" y="1044720"/>
                  <a:chExt cx="270000" cy="230040"/>
                </a:xfrm>
              </p:grpSpPr>
              <p:sp>
                <p:nvSpPr>
                  <p:cNvPr id="527" name="Line 61"/>
                  <p:cNvSpPr/>
                  <p:nvPr/>
                </p:nvSpPr>
                <p:spPr>
                  <a:xfrm flipH="1" flipV="1">
                    <a:off x="3823920" y="1044720"/>
                    <a:ext cx="60480" cy="1400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8" name="Line 62"/>
                  <p:cNvSpPr/>
                  <p:nvPr/>
                </p:nvSpPr>
                <p:spPr>
                  <a:xfrm flipH="1" flipV="1">
                    <a:off x="3614400" y="1135080"/>
                    <a:ext cx="60120" cy="1396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29" name="Line 63"/>
                <p:cNvSpPr/>
                <p:nvPr/>
              </p:nvSpPr>
              <p:spPr>
                <a:xfrm flipV="1">
                  <a:off x="3644640" y="1115280"/>
                  <a:ext cx="209880" cy="9000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0" bIns="43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30" name="Line 64"/>
            <p:cNvSpPr/>
            <p:nvPr/>
          </p:nvSpPr>
          <p:spPr>
            <a:xfrm>
              <a:off x="6553080" y="1780920"/>
              <a:ext cx="0" cy="251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31" name="Group 65"/>
            <p:cNvGrpSpPr/>
            <p:nvPr/>
          </p:nvGrpSpPr>
          <p:grpSpPr>
            <a:xfrm>
              <a:off x="5638680" y="1806120"/>
              <a:ext cx="913680" cy="355320"/>
              <a:chOff x="5638680" y="1806120"/>
              <a:chExt cx="913680" cy="355320"/>
            </a:xfrm>
          </p:grpSpPr>
          <p:sp>
            <p:nvSpPr>
              <p:cNvPr id="532" name="Rectangle 66"/>
              <p:cNvSpPr/>
              <p:nvPr/>
            </p:nvSpPr>
            <p:spPr>
              <a:xfrm rot="16200000">
                <a:off x="5944680" y="1553760"/>
                <a:ext cx="355320" cy="8600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33" name="Group 67"/>
              <p:cNvGrpSpPr/>
              <p:nvPr/>
            </p:nvGrpSpPr>
            <p:grpSpPr>
              <a:xfrm>
                <a:off x="6208560" y="2046600"/>
                <a:ext cx="343080" cy="114840"/>
                <a:chOff x="6208560" y="2046600"/>
                <a:chExt cx="343080" cy="114840"/>
              </a:xfrm>
            </p:grpSpPr>
            <p:sp>
              <p:nvSpPr>
                <p:cNvPr id="534" name="door"/>
                <p:cNvSpPr/>
                <p:nvPr/>
              </p:nvSpPr>
              <p:spPr>
                <a:xfrm flipH="1" flipV="1" rot="10800000">
                  <a:off x="6208560" y="2046240"/>
                  <a:ext cx="332640" cy="114840"/>
                </a:xfrm>
                <a:custGeom>
                  <a:avLst/>
                  <a:gdLst>
                    <a:gd name="textAreaLeft" fmla="*/ 39600 w 332640"/>
                    <a:gd name="textAreaRight" fmla="*/ 207720 w 332640"/>
                    <a:gd name="textAreaTop" fmla="*/ 59040 h 114840"/>
                    <a:gd name="textAreaBottom" fmla="*/ 107280 h 1148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21600"/>
                      </a:moveTo>
                      <a:lnTo>
                        <a:pt x="6007" y="127"/>
                      </a:lnTo>
                      <a:lnTo>
                        <a:pt x="4665" y="2541"/>
                      </a:lnTo>
                      <a:lnTo>
                        <a:pt x="3579" y="5209"/>
                      </a:lnTo>
                      <a:lnTo>
                        <a:pt x="2492" y="8259"/>
                      </a:lnTo>
                      <a:lnTo>
                        <a:pt x="1598" y="11308"/>
                      </a:lnTo>
                      <a:lnTo>
                        <a:pt x="959" y="14739"/>
                      </a:lnTo>
                      <a:lnTo>
                        <a:pt x="383" y="18169"/>
                      </a:lnTo>
                      <a:lnTo>
                        <a:pt x="0" y="2160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" bIns="1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5" name="Line 69"/>
                <p:cNvSpPr/>
                <p:nvPr/>
              </p:nvSpPr>
              <p:spPr>
                <a:xfrm>
                  <a:off x="6208560" y="2161440"/>
                  <a:ext cx="343080" cy="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36" name="Text Box 70"/>
              <p:cNvSpPr/>
              <p:nvPr/>
            </p:nvSpPr>
            <p:spPr>
              <a:xfrm>
                <a:off x="5638680" y="1874520"/>
                <a:ext cx="8780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LAV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7" name="Line 71"/>
            <p:cNvSpPr/>
            <p:nvPr/>
          </p:nvSpPr>
          <p:spPr>
            <a:xfrm>
              <a:off x="6553080" y="3000240"/>
              <a:ext cx="1524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72"/>
            <p:cNvSpPr/>
            <p:nvPr/>
          </p:nvSpPr>
          <p:spPr>
            <a:xfrm>
              <a:off x="1143000" y="3762360"/>
              <a:ext cx="1981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73"/>
            <p:cNvSpPr/>
            <p:nvPr/>
          </p:nvSpPr>
          <p:spPr>
            <a:xfrm>
              <a:off x="3124080" y="3762360"/>
              <a:ext cx="0" cy="532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Text Box 74"/>
            <p:cNvSpPr/>
            <p:nvPr/>
          </p:nvSpPr>
          <p:spPr>
            <a:xfrm>
              <a:off x="6858000" y="2162160"/>
              <a:ext cx="1066680" cy="709200"/>
            </a:xfrm>
            <a:prstGeom prst="rect">
              <a:avLst/>
            </a:prstGeom>
            <a:solidFill>
              <a:srgbClr val="ff33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Bedroo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#1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Fire Locat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Line 75"/>
            <p:cNvSpPr/>
            <p:nvPr/>
          </p:nvSpPr>
          <p:spPr>
            <a:xfrm>
              <a:off x="7696080" y="208584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Line 76"/>
            <p:cNvSpPr/>
            <p:nvPr/>
          </p:nvSpPr>
          <p:spPr>
            <a:xfrm flipV="1">
              <a:off x="7696080" y="1803240"/>
              <a:ext cx="0" cy="282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77"/>
            <p:cNvSpPr/>
            <p:nvPr/>
          </p:nvSpPr>
          <p:spPr>
            <a:xfrm flipV="1">
              <a:off x="7696080" y="39906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78"/>
            <p:cNvSpPr/>
            <p:nvPr/>
          </p:nvSpPr>
          <p:spPr>
            <a:xfrm>
              <a:off x="7696080" y="39909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Text Box 79"/>
            <p:cNvSpPr/>
            <p:nvPr/>
          </p:nvSpPr>
          <p:spPr>
            <a:xfrm>
              <a:off x="6858000" y="3457440"/>
              <a:ext cx="99072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Bedroo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#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6" name="Group 80"/>
            <p:cNvGrpSpPr/>
            <p:nvPr/>
          </p:nvGrpSpPr>
          <p:grpSpPr>
            <a:xfrm>
              <a:off x="7771680" y="1933560"/>
              <a:ext cx="228960" cy="151560"/>
              <a:chOff x="7771680" y="1933560"/>
              <a:chExt cx="228960" cy="151560"/>
            </a:xfrm>
          </p:grpSpPr>
          <p:sp>
            <p:nvSpPr>
              <p:cNvPr id="547" name="door"/>
              <p:cNvSpPr/>
              <p:nvPr/>
            </p:nvSpPr>
            <p:spPr>
              <a:xfrm>
                <a:off x="7771680" y="1933560"/>
                <a:ext cx="221400" cy="151560"/>
              </a:xfrm>
              <a:custGeom>
                <a:avLst/>
                <a:gdLst>
                  <a:gd name="textAreaLeft" fmla="*/ 25920 w 221400"/>
                  <a:gd name="textAreaRight" fmla="*/ 138240 w 221400"/>
                  <a:gd name="textAreaTop" fmla="*/ 78120 h 151560"/>
                  <a:gd name="textAreaBottom" fmla="*/ 141840 h 151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21600"/>
                    </a:moveTo>
                    <a:lnTo>
                      <a:pt x="6007" y="127"/>
                    </a:lnTo>
                    <a:lnTo>
                      <a:pt x="4665" y="2541"/>
                    </a:lnTo>
                    <a:lnTo>
                      <a:pt x="3579" y="5209"/>
                    </a:lnTo>
                    <a:lnTo>
                      <a:pt x="2492" y="8259"/>
                    </a:lnTo>
                    <a:lnTo>
                      <a:pt x="1598" y="11308"/>
                    </a:lnTo>
                    <a:lnTo>
                      <a:pt x="959" y="14739"/>
                    </a:lnTo>
                    <a:lnTo>
                      <a:pt x="383" y="18169"/>
                    </a:lnTo>
                    <a:lnTo>
                      <a:pt x="0" y="2160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Line 82"/>
              <p:cNvSpPr/>
              <p:nvPr/>
            </p:nvSpPr>
            <p:spPr>
              <a:xfrm>
                <a:off x="7772400" y="2085120"/>
                <a:ext cx="228240" cy="0"/>
              </a:xfrm>
              <a:prstGeom prst="line">
                <a:avLst/>
              </a:prstGeom>
              <a:ln w="34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9" name="Group 83"/>
            <p:cNvGrpSpPr/>
            <p:nvPr/>
          </p:nvGrpSpPr>
          <p:grpSpPr>
            <a:xfrm>
              <a:off x="7771680" y="3991320"/>
              <a:ext cx="228960" cy="151560"/>
              <a:chOff x="7771680" y="3991320"/>
              <a:chExt cx="228960" cy="151560"/>
            </a:xfrm>
          </p:grpSpPr>
          <p:sp>
            <p:nvSpPr>
              <p:cNvPr id="550" name="door"/>
              <p:cNvSpPr/>
              <p:nvPr/>
            </p:nvSpPr>
            <p:spPr>
              <a:xfrm flipV="1">
                <a:off x="7771680" y="3990960"/>
                <a:ext cx="221400" cy="151560"/>
              </a:xfrm>
              <a:custGeom>
                <a:avLst/>
                <a:gdLst>
                  <a:gd name="textAreaLeft" fmla="*/ 25920 w 221400"/>
                  <a:gd name="textAreaRight" fmla="*/ 138240 w 221400"/>
                  <a:gd name="textAreaTop" fmla="*/ 78120 h 151560"/>
                  <a:gd name="textAreaBottom" fmla="*/ 141840 h 151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21600"/>
                    </a:moveTo>
                    <a:lnTo>
                      <a:pt x="6007" y="127"/>
                    </a:lnTo>
                    <a:lnTo>
                      <a:pt x="4665" y="2541"/>
                    </a:lnTo>
                    <a:lnTo>
                      <a:pt x="3579" y="5209"/>
                    </a:lnTo>
                    <a:lnTo>
                      <a:pt x="2492" y="8259"/>
                    </a:lnTo>
                    <a:lnTo>
                      <a:pt x="1598" y="11308"/>
                    </a:lnTo>
                    <a:lnTo>
                      <a:pt x="959" y="14739"/>
                    </a:lnTo>
                    <a:lnTo>
                      <a:pt x="383" y="18169"/>
                    </a:lnTo>
                    <a:lnTo>
                      <a:pt x="0" y="2160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 rot="10800000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Line 85"/>
              <p:cNvSpPr/>
              <p:nvPr/>
            </p:nvSpPr>
            <p:spPr>
              <a:xfrm>
                <a:off x="7772400" y="3991320"/>
                <a:ext cx="228240" cy="0"/>
              </a:xfrm>
              <a:prstGeom prst="line">
                <a:avLst/>
              </a:prstGeom>
              <a:ln w="34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2" name="Group 86"/>
            <p:cNvGrpSpPr/>
            <p:nvPr/>
          </p:nvGrpSpPr>
          <p:grpSpPr>
            <a:xfrm>
              <a:off x="6553080" y="2695320"/>
              <a:ext cx="228240" cy="227880"/>
              <a:chOff x="6553080" y="2695320"/>
              <a:chExt cx="228240" cy="227880"/>
            </a:xfrm>
          </p:grpSpPr>
          <p:sp>
            <p:nvSpPr>
              <p:cNvPr id="553" name="door"/>
              <p:cNvSpPr/>
              <p:nvPr/>
            </p:nvSpPr>
            <p:spPr>
              <a:xfrm flipH="1" flipV="1" rot="16200000">
                <a:off x="6556680" y="2691720"/>
                <a:ext cx="221040" cy="228240"/>
              </a:xfrm>
              <a:custGeom>
                <a:avLst/>
                <a:gdLst>
                  <a:gd name="textAreaLeft" fmla="*/ 26280 w 221040"/>
                  <a:gd name="textAreaRight" fmla="*/ 138240 w 221040"/>
                  <a:gd name="textAreaTop" fmla="*/ 118080 h 228240"/>
                  <a:gd name="textAreaBottom" fmla="*/ 214200 h 228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21600"/>
                    </a:moveTo>
                    <a:lnTo>
                      <a:pt x="6007" y="127"/>
                    </a:lnTo>
                    <a:lnTo>
                      <a:pt x="4665" y="2541"/>
                    </a:lnTo>
                    <a:lnTo>
                      <a:pt x="3579" y="5209"/>
                    </a:lnTo>
                    <a:lnTo>
                      <a:pt x="2492" y="8259"/>
                    </a:lnTo>
                    <a:lnTo>
                      <a:pt x="1598" y="11308"/>
                    </a:lnTo>
                    <a:lnTo>
                      <a:pt x="959" y="14739"/>
                    </a:lnTo>
                    <a:lnTo>
                      <a:pt x="383" y="18169"/>
                    </a:lnTo>
                    <a:lnTo>
                      <a:pt x="0" y="2160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Line 88"/>
              <p:cNvSpPr/>
              <p:nvPr/>
            </p:nvSpPr>
            <p:spPr>
              <a:xfrm>
                <a:off x="6553080" y="2695320"/>
                <a:ext cx="0" cy="22788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5" name="Group 89"/>
            <p:cNvGrpSpPr/>
            <p:nvPr/>
          </p:nvGrpSpPr>
          <p:grpSpPr>
            <a:xfrm>
              <a:off x="6553080" y="3990960"/>
              <a:ext cx="228240" cy="227880"/>
              <a:chOff x="6553080" y="3990960"/>
              <a:chExt cx="228240" cy="227880"/>
            </a:xfrm>
          </p:grpSpPr>
          <p:sp>
            <p:nvSpPr>
              <p:cNvPr id="556" name="door"/>
              <p:cNvSpPr/>
              <p:nvPr/>
            </p:nvSpPr>
            <p:spPr>
              <a:xfrm flipH="1" flipV="1" rot="16200000">
                <a:off x="6556680" y="3987360"/>
                <a:ext cx="221040" cy="228240"/>
              </a:xfrm>
              <a:custGeom>
                <a:avLst/>
                <a:gdLst>
                  <a:gd name="textAreaLeft" fmla="*/ 26280 w 221040"/>
                  <a:gd name="textAreaRight" fmla="*/ 138240 w 221040"/>
                  <a:gd name="textAreaTop" fmla="*/ 118080 h 228240"/>
                  <a:gd name="textAreaBottom" fmla="*/ 214200 h 228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21600"/>
                    </a:moveTo>
                    <a:lnTo>
                      <a:pt x="6007" y="127"/>
                    </a:lnTo>
                    <a:lnTo>
                      <a:pt x="4665" y="2541"/>
                    </a:lnTo>
                    <a:lnTo>
                      <a:pt x="3579" y="5209"/>
                    </a:lnTo>
                    <a:lnTo>
                      <a:pt x="2492" y="8259"/>
                    </a:lnTo>
                    <a:lnTo>
                      <a:pt x="1598" y="11308"/>
                    </a:lnTo>
                    <a:lnTo>
                      <a:pt x="959" y="14739"/>
                    </a:lnTo>
                    <a:lnTo>
                      <a:pt x="383" y="18169"/>
                    </a:lnTo>
                    <a:lnTo>
                      <a:pt x="0" y="2160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Line 91"/>
              <p:cNvSpPr/>
              <p:nvPr/>
            </p:nvSpPr>
            <p:spPr>
              <a:xfrm>
                <a:off x="6553080" y="3990960"/>
                <a:ext cx="0" cy="22788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8" name="Group 92"/>
            <p:cNvGrpSpPr/>
            <p:nvPr/>
          </p:nvGrpSpPr>
          <p:grpSpPr>
            <a:xfrm>
              <a:off x="2742480" y="3762720"/>
              <a:ext cx="228960" cy="227880"/>
              <a:chOff x="2742480" y="3762720"/>
              <a:chExt cx="228960" cy="227880"/>
            </a:xfrm>
          </p:grpSpPr>
          <p:sp>
            <p:nvSpPr>
              <p:cNvPr id="559" name="door"/>
              <p:cNvSpPr/>
              <p:nvPr/>
            </p:nvSpPr>
            <p:spPr>
              <a:xfrm flipV="1">
                <a:off x="2742480" y="3762360"/>
                <a:ext cx="221400" cy="227880"/>
              </a:xfrm>
              <a:custGeom>
                <a:avLst/>
                <a:gdLst>
                  <a:gd name="textAreaLeft" fmla="*/ 25920 w 221400"/>
                  <a:gd name="textAreaRight" fmla="*/ 138240 w 221400"/>
                  <a:gd name="textAreaTop" fmla="*/ 117360 h 227880"/>
                  <a:gd name="textAreaBottom" fmla="*/ 213120 h 227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21600"/>
                    </a:moveTo>
                    <a:lnTo>
                      <a:pt x="6007" y="127"/>
                    </a:lnTo>
                    <a:lnTo>
                      <a:pt x="4665" y="2541"/>
                    </a:lnTo>
                    <a:lnTo>
                      <a:pt x="3579" y="5209"/>
                    </a:lnTo>
                    <a:lnTo>
                      <a:pt x="2492" y="8259"/>
                    </a:lnTo>
                    <a:lnTo>
                      <a:pt x="1598" y="11308"/>
                    </a:lnTo>
                    <a:lnTo>
                      <a:pt x="959" y="14739"/>
                    </a:lnTo>
                    <a:lnTo>
                      <a:pt x="383" y="18169"/>
                    </a:lnTo>
                    <a:lnTo>
                      <a:pt x="0" y="2160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Line 94"/>
              <p:cNvSpPr/>
              <p:nvPr/>
            </p:nvSpPr>
            <p:spPr>
              <a:xfrm>
                <a:off x="2743200" y="3762720"/>
                <a:ext cx="22824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1" name="Text Box 95"/>
            <p:cNvSpPr/>
            <p:nvPr/>
          </p:nvSpPr>
          <p:spPr>
            <a:xfrm>
              <a:off x="2209680" y="2481120"/>
              <a:ext cx="9907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Basement Stair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96"/>
            <p:cNvSpPr/>
            <p:nvPr/>
          </p:nvSpPr>
          <p:spPr>
            <a:xfrm>
              <a:off x="2263680" y="1780920"/>
              <a:ext cx="0" cy="19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3" name="Group 97"/>
            <p:cNvGrpSpPr/>
            <p:nvPr/>
          </p:nvGrpSpPr>
          <p:grpSpPr>
            <a:xfrm>
              <a:off x="2035080" y="3381120"/>
              <a:ext cx="228240" cy="227880"/>
              <a:chOff x="2035080" y="3381120"/>
              <a:chExt cx="228240" cy="227880"/>
            </a:xfrm>
          </p:grpSpPr>
          <p:sp>
            <p:nvSpPr>
              <p:cNvPr id="564" name="door"/>
              <p:cNvSpPr/>
              <p:nvPr/>
            </p:nvSpPr>
            <p:spPr>
              <a:xfrm flipV="1" rot="5400000">
                <a:off x="2038680" y="3377520"/>
                <a:ext cx="221040" cy="228240"/>
              </a:xfrm>
              <a:custGeom>
                <a:avLst/>
                <a:gdLst>
                  <a:gd name="textAreaLeft" fmla="*/ 25920 w 221040"/>
                  <a:gd name="textAreaRight" fmla="*/ 137880 w 221040"/>
                  <a:gd name="textAreaTop" fmla="*/ 118080 h 228240"/>
                  <a:gd name="textAreaBottom" fmla="*/ 214200 h 228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21600"/>
                    </a:moveTo>
                    <a:lnTo>
                      <a:pt x="6007" y="127"/>
                    </a:lnTo>
                    <a:lnTo>
                      <a:pt x="4665" y="2541"/>
                    </a:lnTo>
                    <a:lnTo>
                      <a:pt x="3579" y="5209"/>
                    </a:lnTo>
                    <a:lnTo>
                      <a:pt x="2492" y="8259"/>
                    </a:lnTo>
                    <a:lnTo>
                      <a:pt x="1598" y="11308"/>
                    </a:lnTo>
                    <a:lnTo>
                      <a:pt x="959" y="14739"/>
                    </a:lnTo>
                    <a:lnTo>
                      <a:pt x="383" y="18169"/>
                    </a:lnTo>
                    <a:lnTo>
                      <a:pt x="0" y="2160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Line 99"/>
              <p:cNvSpPr/>
              <p:nvPr/>
            </p:nvSpPr>
            <p:spPr>
              <a:xfrm>
                <a:off x="2263320" y="3381120"/>
                <a:ext cx="0" cy="22788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6" name="Text Box 100"/>
            <p:cNvSpPr/>
            <p:nvPr/>
          </p:nvSpPr>
          <p:spPr>
            <a:xfrm>
              <a:off x="1219320" y="2695320"/>
              <a:ext cx="99036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Bedroo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#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7" name="Group 101"/>
            <p:cNvGrpSpPr/>
            <p:nvPr/>
          </p:nvGrpSpPr>
          <p:grpSpPr>
            <a:xfrm>
              <a:off x="1143000" y="3457440"/>
              <a:ext cx="380880" cy="304560"/>
              <a:chOff x="1143000" y="3457440"/>
              <a:chExt cx="380880" cy="304560"/>
            </a:xfrm>
          </p:grpSpPr>
          <p:sp>
            <p:nvSpPr>
              <p:cNvPr id="568" name="Line 102"/>
              <p:cNvSpPr/>
              <p:nvPr/>
            </p:nvSpPr>
            <p:spPr>
              <a:xfrm flipV="1">
                <a:off x="1523880" y="345744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Line 103"/>
              <p:cNvSpPr/>
              <p:nvPr/>
            </p:nvSpPr>
            <p:spPr>
              <a:xfrm flipH="1">
                <a:off x="1143000" y="3457440"/>
                <a:ext cx="38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70" name="Group 104"/>
              <p:cNvGrpSpPr/>
              <p:nvPr/>
            </p:nvGrpSpPr>
            <p:grpSpPr>
              <a:xfrm>
                <a:off x="1219680" y="3457440"/>
                <a:ext cx="228960" cy="151920"/>
                <a:chOff x="1219680" y="3457440"/>
                <a:chExt cx="228960" cy="151920"/>
              </a:xfrm>
            </p:grpSpPr>
            <p:sp>
              <p:nvSpPr>
                <p:cNvPr id="571" name="door"/>
                <p:cNvSpPr/>
                <p:nvPr/>
              </p:nvSpPr>
              <p:spPr>
                <a:xfrm flipH="1" flipV="1">
                  <a:off x="1226880" y="3457440"/>
                  <a:ext cx="221400" cy="151920"/>
                </a:xfrm>
                <a:custGeom>
                  <a:avLst/>
                  <a:gdLst>
                    <a:gd name="textAreaLeft" fmla="*/ 25560 w 221400"/>
                    <a:gd name="textAreaRight" fmla="*/ 137880 w 221400"/>
                    <a:gd name="textAreaTop" fmla="*/ 78840 h 151920"/>
                    <a:gd name="textAreaBottom" fmla="*/ 142560 h 1519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21600"/>
                      </a:moveTo>
                      <a:lnTo>
                        <a:pt x="6007" y="127"/>
                      </a:lnTo>
                      <a:lnTo>
                        <a:pt x="4665" y="2541"/>
                      </a:lnTo>
                      <a:lnTo>
                        <a:pt x="3579" y="5209"/>
                      </a:lnTo>
                      <a:lnTo>
                        <a:pt x="2492" y="8259"/>
                      </a:lnTo>
                      <a:lnTo>
                        <a:pt x="1598" y="11308"/>
                      </a:lnTo>
                      <a:lnTo>
                        <a:pt x="959" y="14739"/>
                      </a:lnTo>
                      <a:lnTo>
                        <a:pt x="383" y="18169"/>
                      </a:lnTo>
                      <a:lnTo>
                        <a:pt x="0" y="2160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 rot="10800000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2" name="Line 106"/>
                <p:cNvSpPr/>
                <p:nvPr/>
              </p:nvSpPr>
              <p:spPr>
                <a:xfrm flipH="1">
                  <a:off x="1219680" y="3457440"/>
                  <a:ext cx="228240" cy="0"/>
                </a:xfrm>
                <a:prstGeom prst="line">
                  <a:avLst/>
                </a:prstGeom>
                <a:ln w="34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73" name="Text Box 107"/>
            <p:cNvSpPr/>
            <p:nvPr/>
          </p:nvSpPr>
          <p:spPr>
            <a:xfrm>
              <a:off x="3809880" y="2923920"/>
              <a:ext cx="9907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Downstairs Great Roo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Text Box 108"/>
            <p:cNvSpPr/>
            <p:nvPr/>
          </p:nvSpPr>
          <p:spPr>
            <a:xfrm>
              <a:off x="4191120" y="1323720"/>
              <a:ext cx="9903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Kitchenette Are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Text Box 109"/>
            <p:cNvSpPr/>
            <p:nvPr/>
          </p:nvSpPr>
          <p:spPr>
            <a:xfrm>
              <a:off x="1219320" y="3914640"/>
              <a:ext cx="990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torag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Text Box 110"/>
            <p:cNvSpPr/>
            <p:nvPr/>
          </p:nvSpPr>
          <p:spPr>
            <a:xfrm>
              <a:off x="3124080" y="1628640"/>
              <a:ext cx="9907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Sliding Door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Line 111"/>
            <p:cNvSpPr/>
            <p:nvPr/>
          </p:nvSpPr>
          <p:spPr>
            <a:xfrm flipV="1">
              <a:off x="3200400" y="14760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Line 112"/>
            <p:cNvSpPr/>
            <p:nvPr/>
          </p:nvSpPr>
          <p:spPr>
            <a:xfrm flipV="1">
              <a:off x="3733920" y="13237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Line 113"/>
            <p:cNvSpPr/>
            <p:nvPr/>
          </p:nvSpPr>
          <p:spPr>
            <a:xfrm>
              <a:off x="1752480" y="790560"/>
              <a:ext cx="540000" cy="101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Line 114"/>
            <p:cNvSpPr/>
            <p:nvPr/>
          </p:nvSpPr>
          <p:spPr>
            <a:xfrm>
              <a:off x="3505320" y="104760"/>
              <a:ext cx="539640" cy="939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Line 115"/>
            <p:cNvSpPr/>
            <p:nvPr/>
          </p:nvSpPr>
          <p:spPr>
            <a:xfrm flipH="1">
              <a:off x="1752120" y="76320"/>
              <a:ext cx="1746360" cy="71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Text Box 116"/>
            <p:cNvSpPr/>
            <p:nvPr/>
          </p:nvSpPr>
          <p:spPr>
            <a:xfrm>
              <a:off x="2209680" y="790560"/>
              <a:ext cx="1219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Pati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Rectangle 117"/>
            <p:cNvSpPr/>
            <p:nvPr/>
          </p:nvSpPr>
          <p:spPr>
            <a:xfrm flipV="1" rot="5400000">
              <a:off x="2509200" y="2459880"/>
              <a:ext cx="217080" cy="708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Line 118"/>
            <p:cNvSpPr/>
            <p:nvPr/>
          </p:nvSpPr>
          <p:spPr>
            <a:xfrm>
              <a:off x="2668680" y="2705760"/>
              <a:ext cx="0" cy="21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Line 119"/>
            <p:cNvSpPr/>
            <p:nvPr/>
          </p:nvSpPr>
          <p:spPr>
            <a:xfrm>
              <a:off x="2567160" y="2705760"/>
              <a:ext cx="0" cy="21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Line 120"/>
            <p:cNvSpPr/>
            <p:nvPr/>
          </p:nvSpPr>
          <p:spPr>
            <a:xfrm>
              <a:off x="2465280" y="2705760"/>
              <a:ext cx="0" cy="21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Line 121"/>
            <p:cNvSpPr/>
            <p:nvPr/>
          </p:nvSpPr>
          <p:spPr>
            <a:xfrm>
              <a:off x="2770200" y="2704320"/>
              <a:ext cx="0" cy="21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8" name="Group 122"/>
            <p:cNvGrpSpPr/>
            <p:nvPr/>
          </p:nvGrpSpPr>
          <p:grpSpPr>
            <a:xfrm>
              <a:off x="2285640" y="2923920"/>
              <a:ext cx="152280" cy="151920"/>
              <a:chOff x="2285640" y="2923920"/>
              <a:chExt cx="152280" cy="151920"/>
            </a:xfrm>
          </p:grpSpPr>
          <p:sp>
            <p:nvSpPr>
              <p:cNvPr id="589" name="door"/>
              <p:cNvSpPr/>
              <p:nvPr/>
            </p:nvSpPr>
            <p:spPr>
              <a:xfrm flipH="1" flipV="1">
                <a:off x="2290320" y="2923920"/>
                <a:ext cx="147600" cy="151920"/>
              </a:xfrm>
              <a:custGeom>
                <a:avLst/>
                <a:gdLst>
                  <a:gd name="textAreaLeft" fmla="*/ 17280 w 147600"/>
                  <a:gd name="textAreaRight" fmla="*/ 92160 w 147600"/>
                  <a:gd name="textAreaTop" fmla="*/ 78840 h 151920"/>
                  <a:gd name="textAreaBottom" fmla="*/ 142560 h 151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21600"/>
                    </a:moveTo>
                    <a:lnTo>
                      <a:pt x="6007" y="127"/>
                    </a:lnTo>
                    <a:lnTo>
                      <a:pt x="4665" y="2541"/>
                    </a:lnTo>
                    <a:lnTo>
                      <a:pt x="3579" y="5209"/>
                    </a:lnTo>
                    <a:lnTo>
                      <a:pt x="2492" y="8259"/>
                    </a:lnTo>
                    <a:lnTo>
                      <a:pt x="1598" y="11308"/>
                    </a:lnTo>
                    <a:lnTo>
                      <a:pt x="959" y="14739"/>
                    </a:lnTo>
                    <a:lnTo>
                      <a:pt x="383" y="18169"/>
                    </a:lnTo>
                    <a:lnTo>
                      <a:pt x="0" y="2160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 rot="10800000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Line 124"/>
              <p:cNvSpPr/>
              <p:nvPr/>
            </p:nvSpPr>
            <p:spPr>
              <a:xfrm flipH="1">
                <a:off x="2285640" y="2923920"/>
                <a:ext cx="152280" cy="0"/>
              </a:xfrm>
              <a:prstGeom prst="line">
                <a:avLst/>
              </a:prstGeom>
              <a:ln w="22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1" name="Text Box 125"/>
            <p:cNvSpPr/>
            <p:nvPr/>
          </p:nvSpPr>
          <p:spPr>
            <a:xfrm>
              <a:off x="7086600" y="1857240"/>
              <a:ext cx="6969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Close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Text Box 126"/>
            <p:cNvSpPr/>
            <p:nvPr/>
          </p:nvSpPr>
          <p:spPr>
            <a:xfrm>
              <a:off x="7086600" y="3990960"/>
              <a:ext cx="6969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Close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Text Box 127"/>
            <p:cNvSpPr/>
            <p:nvPr/>
          </p:nvSpPr>
          <p:spPr>
            <a:xfrm>
              <a:off x="1447920" y="3533760"/>
              <a:ext cx="6969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Close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Text Box 128"/>
            <p:cNvSpPr/>
            <p:nvPr/>
          </p:nvSpPr>
          <p:spPr>
            <a:xfrm>
              <a:off x="3906000" y="5713200"/>
              <a:ext cx="680760" cy="30708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Side 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Text Box 129"/>
            <p:cNvSpPr/>
            <p:nvPr/>
          </p:nvSpPr>
          <p:spPr>
            <a:xfrm>
              <a:off x="248400" y="2847960"/>
              <a:ext cx="671400" cy="30708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Side 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Text Box 130"/>
            <p:cNvSpPr/>
            <p:nvPr/>
          </p:nvSpPr>
          <p:spPr>
            <a:xfrm>
              <a:off x="8173080" y="2847960"/>
              <a:ext cx="680760" cy="30708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Side 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Text Box 131"/>
            <p:cNvSpPr/>
            <p:nvPr/>
          </p:nvSpPr>
          <p:spPr>
            <a:xfrm>
              <a:off x="3982320" y="150840"/>
              <a:ext cx="680760" cy="30708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Side 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Slide Number Placeholder 1"/>
          <p:cNvSpPr/>
          <p:nvPr/>
        </p:nvSpPr>
        <p:spPr>
          <a:xfrm>
            <a:off x="7002360" y="64771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lide 5-</a:t>
            </a:r>
            <a:fld id="{9C4D28AF-A1C7-4949-B1FA-BA8B6ED9B4B0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9" name="Picture 2" descr="This is a picture of the front of the same house and it is on fire"/>
          <p:cNvPicPr/>
          <p:nvPr/>
        </p:nvPicPr>
        <p:blipFill>
          <a:blip r:embed="rId1"/>
          <a:stretch/>
        </p:blipFill>
        <p:spPr>
          <a:xfrm>
            <a:off x="0" y="0"/>
            <a:ext cx="9144000" cy="6400800"/>
          </a:xfrm>
          <a:prstGeom prst="rect">
            <a:avLst/>
          </a:prstGeom>
          <a:ln w="0">
            <a:noFill/>
          </a:ln>
        </p:spPr>
      </p:pic>
      <p:sp>
        <p:nvSpPr>
          <p:cNvPr id="600" name="Text Box 3"/>
          <p:cNvSpPr/>
          <p:nvPr/>
        </p:nvSpPr>
        <p:spPr>
          <a:xfrm>
            <a:off x="3372480" y="4800600"/>
            <a:ext cx="680760" cy="30708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ide 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4"/>
          <p:cNvSpPr/>
          <p:nvPr/>
        </p:nvSpPr>
        <p:spPr>
          <a:xfrm>
            <a:off x="7944480" y="4114800"/>
            <a:ext cx="680760" cy="30708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ide 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5"/>
          <p:cNvSpPr/>
          <p:nvPr/>
        </p:nvSpPr>
        <p:spPr>
          <a:xfrm flipV="1">
            <a:off x="8305920" y="3352320"/>
            <a:ext cx="0" cy="83844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Line 6"/>
          <p:cNvSpPr/>
          <p:nvPr/>
        </p:nvSpPr>
        <p:spPr>
          <a:xfrm flipV="1">
            <a:off x="3809880" y="3962520"/>
            <a:ext cx="0" cy="8380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Slide Number Placeholder 1"/>
          <p:cNvSpPr/>
          <p:nvPr/>
        </p:nvSpPr>
        <p:spPr>
          <a:xfrm>
            <a:off x="7002360" y="64771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lide 5-</a:t>
            </a:r>
            <a:fld id="{733591D8-1D97-44B5-8FF4-F4CC5FE64D50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5" name="Picture 2" descr="This is a picture of the side of the same house on fire"/>
          <p:cNvPicPr/>
          <p:nvPr/>
        </p:nvPicPr>
        <p:blipFill>
          <a:blip r:embed="rId1"/>
          <a:stretch/>
        </p:blipFill>
        <p:spPr>
          <a:xfrm>
            <a:off x="0" y="0"/>
            <a:ext cx="9144000" cy="6324480"/>
          </a:xfrm>
          <a:prstGeom prst="rect">
            <a:avLst/>
          </a:prstGeom>
          <a:ln w="0">
            <a:noFill/>
          </a:ln>
        </p:spPr>
      </p:pic>
      <p:sp>
        <p:nvSpPr>
          <p:cNvPr id="606" name="Line 3"/>
          <p:cNvSpPr/>
          <p:nvPr/>
        </p:nvSpPr>
        <p:spPr>
          <a:xfrm flipV="1">
            <a:off x="3429000" y="3733920"/>
            <a:ext cx="0" cy="9144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Text Box 4"/>
          <p:cNvSpPr/>
          <p:nvPr/>
        </p:nvSpPr>
        <p:spPr>
          <a:xfrm>
            <a:off x="3067920" y="4648320"/>
            <a:ext cx="671400" cy="30708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ide 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Text Box 5"/>
          <p:cNvSpPr/>
          <p:nvPr/>
        </p:nvSpPr>
        <p:spPr>
          <a:xfrm>
            <a:off x="7411320" y="3505320"/>
            <a:ext cx="680760" cy="30708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ide 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Line 6"/>
          <p:cNvSpPr/>
          <p:nvPr/>
        </p:nvSpPr>
        <p:spPr>
          <a:xfrm flipH="1" flipV="1">
            <a:off x="6629040" y="3048120"/>
            <a:ext cx="762120" cy="4572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6T18:42:52Z</dcterms:created>
  <dc:creator>Phil </dc:creator>
  <dc:description/>
  <dc:language>en-US</dc:language>
  <cp:lastModifiedBy>jvanover</cp:lastModifiedBy>
  <cp:lastPrinted>2013-02-21T15:47:11Z</cp:lastPrinted>
  <dcterms:modified xsi:type="dcterms:W3CDTF">2013-02-21T15:51:31Z</dcterms:modified>
  <cp:revision>17</cp:revision>
  <dc:subject/>
  <dc:title> Single Family Frame</dc:title>
</cp:coreProperties>
</file>